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8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3.png" ContentType="image/png"/>
  <Override PartName="/ppt/media/image8.wmf" ContentType="image/x-wmf"/>
  <Override PartName="/ppt/media/image15.png" ContentType="image/png"/>
  <Override PartName="/ppt/media/image14.png" ContentType="image/png"/>
  <Override PartName="/ppt/media/image6.gif" ContentType="image/gif"/>
  <Override PartName="/ppt/media/image9.png" ContentType="image/png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426D6-F388-44B2-8CD9-6D369DCBAE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Комментарий голосом: В данном случае представлен (выбран) модуль договоры и нажата кнопка список объек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Комментарий голосом: Выбран модуль договоры, нажата кнопка информация по объект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Комментарий голосом: Выбран модуль договоры, нажата кнопка сводная информация возникли поля дополнительной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A309-4B11-431F-8332-C3B37A0C8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20C3-1CFA-41BF-A092-8871DDEEB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50A0-AF66-44C5-8DE6-2B26AD401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56D9-0ADC-49F8-A281-DF48BA603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2EFB-55A2-4581-84BD-522947BE5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E054-26F8-40A1-8FEF-15923A263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ABF0-6C9B-4EA0-BEC0-A2023ED2E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D422-E662-4532-9700-99A0600A4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087F-1B8D-4F72-A761-2B60AF783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4E25-A5AE-4050-BA5A-7F873D5C2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87E5-3826-43B5-B019-DC005B65A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4AE4-DEE5-4348-8BE1-4B64F5D1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2"/>
            </a:gs>
            <a:gs pos="100000">
              <a:srgbClr val="000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07A21-98F1-4C6F-A87A-8BF7F2E82D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3.wm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2"/>
            </a:gs>
            <a:gs pos="100000">
              <a:srgbClr val="000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7ff07"/>
                </a:solidFill>
                <a:latin typeface="Monotype Corsiva"/>
              </a:rPr>
              <a:t>РИНТИ </a:t>
            </a:r>
            <a:r>
              <a:rPr b="1" lang="en-US" sz="3200" spc="-1" strike="noStrike" baseline="30000">
                <a:solidFill>
                  <a:srgbClr val="07ff07"/>
                </a:solidFill>
                <a:latin typeface="Monotype Corsiva"/>
              </a:rPr>
              <a:t>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2276280"/>
            <a:ext cx="64008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99"/>
                </a:solidFill>
                <a:latin typeface="Arial"/>
              </a:rPr>
              <a:t>Технологию формирования систем автоматизации управления бизнес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1080" y="105264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ff99"/>
                </a:solidFill>
                <a:latin typeface="Arial"/>
              </a:rPr>
              <a:t>представля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2901960" y="4335480"/>
            <a:ext cx="3600000" cy="950400"/>
            <a:chOff x="2901960" y="4335480"/>
            <a:chExt cx="3600000" cy="950400"/>
          </a:xfrm>
        </p:grpSpPr>
        <p:sp>
          <p:nvSpPr>
            <p:cNvPr id="52" name=""/>
            <p:cNvSpPr/>
            <p:nvPr/>
          </p:nvSpPr>
          <p:spPr>
            <a:xfrm>
              <a:off x="2917800" y="4349520"/>
              <a:ext cx="3584160" cy="936360"/>
            </a:xfrm>
            <a:prstGeom prst="rect">
              <a:avLst/>
            </a:prstGeom>
            <a:noFill/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01960" y="4335480"/>
              <a:ext cx="3584160" cy="936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6732720" y="587700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cc"/>
                </a:solidFill>
                <a:latin typeface="Franklin Gothic Medium"/>
              </a:rPr>
              <a:t>Живой бизне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917800" y="4559400"/>
            <a:ext cx="359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 Unicode"/>
              </a:rPr>
              <a:t>BOBi</a:t>
            </a:r>
            <a:r>
              <a:rPr b="0" lang="en-US" sz="3600" spc="-1" strike="noStrike">
                <a:solidFill>
                  <a:srgbClr val="ffffff"/>
                </a:solidFill>
                <a:latin typeface="Lucida Sans Unicode"/>
              </a:rPr>
              <a:t>®</a:t>
            </a:r>
            <a:r>
              <a:rPr b="1" lang="en-US" sz="3600" spc="-1" strike="noStrike">
                <a:solidFill>
                  <a:srgbClr val="ffffff"/>
                </a:solidFill>
                <a:latin typeface="Lucida Sans Unicod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indefinite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2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2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2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2"/>
            </a:gs>
            <a:gs pos="100000">
              <a:srgbClr val="000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70040" y="1484280"/>
            <a:ext cx="7704000" cy="504036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На основании правил, тарифов и информации пользователя формируются итоговые докумен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2"/>
            </a:gs>
            <a:gs pos="100000">
              <a:srgbClr val="000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348000" y="504720"/>
            <a:ext cx="2519280" cy="1312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 Unicode"/>
              </a:rPr>
              <a:t>SalesLine</a:t>
            </a:r>
            <a:r>
              <a:rPr b="0" lang="en-US" sz="3600" spc="-1" strike="noStrike">
                <a:solidFill>
                  <a:srgbClr val="ffffff"/>
                </a:solidFill>
                <a:latin typeface="Lucida Sans Unicode"/>
              </a:rPr>
              <a:t>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2565360"/>
            <a:ext cx="82296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SalesLine</a:t>
            </a:r>
            <a:r>
              <a:rPr b="1" lang="en-US" sz="3200" spc="-1" strike="noStrike" baseline="30000">
                <a:solidFill>
                  <a:srgbClr val="00ff00"/>
                </a:solidFill>
                <a:latin typeface="Arial"/>
              </a:rPr>
              <a:t>®</a:t>
            </a: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 – </a:t>
            </a:r>
            <a:r>
              <a:rPr b="1" lang="ru-RU" sz="3200" spc="-1" strike="noStrike">
                <a:solidFill>
                  <a:srgbClr val="00ff00"/>
                </a:solidFill>
                <a:latin typeface="Arial"/>
              </a:rPr>
              <a:t>это</a:t>
            </a: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ff00"/>
                </a:solidFill>
                <a:latin typeface="Arial"/>
              </a:rPr>
              <a:t>автоматизированное рабочее место продавца услуг, которое может быть установлено в любой точке, где есть компьютер и связ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2"/>
            </a:gs>
            <a:gs pos="100000">
              <a:srgbClr val="000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786040" y="1989000"/>
            <a:ext cx="3672000" cy="100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dd2fe"/>
              </a:gs>
              <a:gs pos="100000">
                <a:srgbClr val="b3ba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mierLine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®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389240" y="4551480"/>
            <a:ext cx="2879640" cy="11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99ff"/>
              </a:gs>
              <a:gs pos="100000">
                <a:srgbClr val="b3d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alesLine</a:t>
            </a:r>
            <a:r>
              <a:rPr b="0" lang="en-US" sz="3400" spc="-1" strike="noStrike" baseline="30000">
                <a:solidFill>
                  <a:srgbClr val="000000"/>
                </a:solidFill>
                <a:latin typeface="Times New Roman"/>
              </a:rPr>
              <a:t>®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975200" y="4551480"/>
            <a:ext cx="2879640" cy="11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99ff"/>
              </a:gs>
              <a:gs pos="100000">
                <a:srgbClr val="b3d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PremierLine</a:t>
            </a:r>
            <a:r>
              <a:rPr b="0" lang="en-US" sz="3400" spc="-1" strike="noStrike" baseline="30000">
                <a:solidFill>
                  <a:srgbClr val="000000"/>
                </a:solidFill>
                <a:latin typeface="Times New Roman"/>
              </a:rPr>
              <a:t>®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Back Offi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2842560" y="2982960"/>
            <a:ext cx="3566160" cy="1569960"/>
            <a:chOff x="2842560" y="2982960"/>
            <a:chExt cx="3566160" cy="1569960"/>
          </a:xfrm>
        </p:grpSpPr>
        <p:cxnSp>
          <p:nvCxnSpPr>
            <p:cNvPr id="182" name=""/>
            <p:cNvCxnSpPr/>
            <p:nvPr/>
          </p:nvCxnSpPr>
          <p:spPr>
            <a:xfrm>
              <a:off x="4636800" y="2982960"/>
              <a:ext cx="1080" cy="720000"/>
            </a:xfrm>
            <a:prstGeom prst="straightConnector1">
              <a:avLst/>
            </a:prstGeom>
            <a:ln w="31680">
              <a:solidFill>
                <a:srgbClr val="cc99ff"/>
              </a:solidFill>
              <a:miter/>
              <a:headEnd len="sm" type="diamond" w="lg"/>
              <a:tailEnd len="sm" type="diamond" w="lg"/>
            </a:ln>
          </p:spPr>
        </p:cxnSp>
        <p:grpSp>
          <p:nvGrpSpPr>
            <p:cNvPr id="183" name=""/>
            <p:cNvGrpSpPr/>
            <p:nvPr/>
          </p:nvGrpSpPr>
          <p:grpSpPr>
            <a:xfrm>
              <a:off x="2842560" y="3702600"/>
              <a:ext cx="3566160" cy="850320"/>
              <a:chOff x="2842560" y="3702600"/>
              <a:chExt cx="3566160" cy="850320"/>
            </a:xfrm>
          </p:grpSpPr>
          <p:cxnSp>
            <p:nvCxnSpPr>
              <p:cNvPr id="184" name=""/>
              <p:cNvCxnSpPr>
                <a:endCxn id="180" idx="0"/>
              </p:cNvCxnSpPr>
              <p:nvPr/>
            </p:nvCxnSpPr>
            <p:spPr>
              <a:xfrm>
                <a:off x="4606560" y="3703320"/>
                <a:ext cx="1802520" cy="849960"/>
              </a:xfrm>
              <a:prstGeom prst="bentConnector2">
                <a:avLst/>
              </a:prstGeom>
              <a:ln w="31680">
                <a:solidFill>
                  <a:srgbClr val="cc99ff"/>
                </a:solidFill>
                <a:miter/>
                <a:tailEnd len="lg" type="stealth" w="lg"/>
              </a:ln>
            </p:spPr>
          </p:cxnSp>
          <p:cxnSp>
            <p:nvCxnSpPr>
              <p:cNvPr id="185" name=""/>
              <p:cNvCxnSpPr>
                <a:endCxn id="179" idx="0"/>
              </p:cNvCxnSpPr>
              <p:nvPr/>
            </p:nvCxnSpPr>
            <p:spPr>
              <a:xfrm flipV="1" rot="10800000">
                <a:off x="2842560" y="3702600"/>
                <a:ext cx="1764360" cy="849960"/>
              </a:xfrm>
              <a:prstGeom prst="bentConnector2">
                <a:avLst/>
              </a:prstGeom>
              <a:ln w="31680">
                <a:solidFill>
                  <a:srgbClr val="cc99ff"/>
                </a:solidFill>
                <a:miter/>
                <a:tailEnd len="lg" type="stealth" w="lg"/>
              </a:ln>
            </p:spPr>
          </p:cxnSp>
        </p:grpSp>
      </p:grp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27200" y="74448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труктура </a:t>
            </a:r>
            <a:r>
              <a:rPr b="1" lang="en-US" sz="2800" spc="-1" strike="noStrike">
                <a:solidFill>
                  <a:srgbClr val="99ffcc"/>
                </a:solidFill>
                <a:latin typeface="Arial"/>
              </a:rPr>
              <a:t>RINTI™ PremierLine</a:t>
            </a:r>
            <a:r>
              <a:rPr b="1" lang="en-US" sz="2800" spc="-1" strike="noStrike" baseline="30000">
                <a:solidFill>
                  <a:srgbClr val="99ffcc"/>
                </a:solidFill>
                <a:latin typeface="Arial"/>
              </a:rPr>
              <a:t>®</a:t>
            </a:r>
            <a:r>
              <a:rPr b="1" lang="en-US" sz="2800" spc="-1" strike="noStrike">
                <a:solidFill>
                  <a:srgbClr val="99ffcc"/>
                </a:solidFill>
                <a:latin typeface="Arial"/>
              </a:rPr>
              <a:t>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3000"/>
                            </p:stCondLst>
                            <p:childTnLst>
                              <p:par>
                                <p:cTn id="396" nodeType="afterEffect" fill="hold" presetClass="entr" presetID="17" presetSubtype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2"/>
            </a:gs>
            <a:gs pos="100000">
              <a:srgbClr val="000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08240" y="1197000"/>
            <a:ext cx="3670200" cy="1584360"/>
          </a:xfrm>
          <a:prstGeom prst="line">
            <a:avLst/>
          </a:prstGeom>
          <a:ln w="38160">
            <a:solidFill>
              <a:srgbClr val="ff00ff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165400" y="2492280"/>
            <a:ext cx="3706920" cy="865440"/>
          </a:xfrm>
          <a:prstGeom prst="line">
            <a:avLst/>
          </a:prstGeom>
          <a:ln w="38160">
            <a:solidFill>
              <a:srgbClr val="ff00ff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2122560" y="3933720"/>
            <a:ext cx="3744720" cy="216000"/>
          </a:xfrm>
          <a:prstGeom prst="line">
            <a:avLst/>
          </a:prstGeom>
          <a:ln w="38160">
            <a:solidFill>
              <a:srgbClr val="ff00ff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2022480" y="4408200"/>
            <a:ext cx="3851280" cy="1297080"/>
          </a:xfrm>
          <a:prstGeom prst="line">
            <a:avLst/>
          </a:prstGeom>
          <a:ln w="38160">
            <a:solidFill>
              <a:srgbClr val="ff00ff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computr4"/>
          <p:cNvSpPr/>
          <p:nvPr/>
        </p:nvSpPr>
        <p:spPr>
          <a:xfrm>
            <a:off x="5869080" y="2276640"/>
            <a:ext cx="2590560" cy="2808000"/>
          </a:xfrm>
          <a:prstGeom prst="pie">
            <a:avLst/>
          </a:prstGeom>
          <a:gradFill rotWithShape="0">
            <a:gsLst>
              <a:gs pos="0">
                <a:srgbClr val="ccffcc"/>
              </a:gs>
              <a:gs pos="100000">
                <a:srgbClr val="ccff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н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957240" y="333360"/>
            <a:ext cx="2592360" cy="1297080"/>
            <a:chOff x="957240" y="333360"/>
            <a:chExt cx="2592360" cy="1297080"/>
          </a:xfrm>
        </p:grpSpPr>
        <p:pic>
          <p:nvPicPr>
            <p:cNvPr id="193" name="" descr=""/>
            <p:cNvPicPr/>
            <p:nvPr/>
          </p:nvPicPr>
          <p:blipFill>
            <a:blip r:embed="rId1"/>
            <a:stretch/>
          </p:blipFill>
          <p:spPr>
            <a:xfrm>
              <a:off x="957240" y="333360"/>
              <a:ext cx="1254240" cy="12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2181240" y="511200"/>
              <a:ext cx="136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Продаж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971640" y="1790640"/>
            <a:ext cx="2808360" cy="1349280"/>
            <a:chOff x="971640" y="1790640"/>
            <a:chExt cx="2808360" cy="1349280"/>
          </a:xfrm>
        </p:grpSpPr>
        <p:pic>
          <p:nvPicPr>
            <p:cNvPr id="196" name="" descr=""/>
            <p:cNvPicPr/>
            <p:nvPr/>
          </p:nvPicPr>
          <p:blipFill>
            <a:blip r:embed="rId2"/>
            <a:stretch/>
          </p:blipFill>
          <p:spPr>
            <a:xfrm>
              <a:off x="971640" y="1916280"/>
              <a:ext cx="1204920" cy="12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2195640" y="1790640"/>
              <a:ext cx="1584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bb"/>
                  </a:solidFill>
                  <a:latin typeface="Arial"/>
                </a:rPr>
                <a:t>Отчеты филиал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898560" y="3429000"/>
            <a:ext cx="3168720" cy="1297080"/>
            <a:chOff x="898560" y="3429000"/>
            <a:chExt cx="3168720" cy="1297080"/>
          </a:xfrm>
        </p:grpSpPr>
        <p:pic>
          <p:nvPicPr>
            <p:cNvPr id="199" name="" descr=""/>
            <p:cNvPicPr/>
            <p:nvPr/>
          </p:nvPicPr>
          <p:blipFill>
            <a:blip r:embed="rId3"/>
            <a:stretch/>
          </p:blipFill>
          <p:spPr>
            <a:xfrm>
              <a:off x="898560" y="3429000"/>
              <a:ext cx="1270080" cy="12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2195640" y="3716280"/>
              <a:ext cx="1871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ab"/>
                  </a:solidFill>
                  <a:latin typeface="Arial"/>
                </a:rPr>
                <a:t>Финансовые докумен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892080" y="4940280"/>
            <a:ext cx="2887560" cy="1368360"/>
            <a:chOff x="892080" y="4940280"/>
            <a:chExt cx="2887560" cy="1368360"/>
          </a:xfrm>
        </p:grpSpPr>
        <p:pic>
          <p:nvPicPr>
            <p:cNvPr id="202" name="" descr=""/>
            <p:cNvPicPr/>
            <p:nvPr/>
          </p:nvPicPr>
          <p:blipFill>
            <a:blip r:embed="rId4"/>
            <a:stretch/>
          </p:blipFill>
          <p:spPr>
            <a:xfrm>
              <a:off x="892080" y="4940280"/>
              <a:ext cx="132228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2195280" y="5769000"/>
              <a:ext cx="158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9d"/>
                  </a:solidFill>
                  <a:latin typeface="Arial"/>
                </a:rPr>
                <a:t>Call-</a:t>
              </a:r>
              <a:r>
                <a:rPr b="1" lang="ru-RU" sz="2000" spc="-1" strike="noStrike">
                  <a:solidFill>
                    <a:srgbClr val="ffff9d"/>
                  </a:solidFill>
                  <a:latin typeface="Arial"/>
                </a:rPr>
                <a:t>цент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04" name=""/>
          <p:cNvCxnSpPr>
            <a:stCxn id="205" idx="2"/>
            <a:endCxn id="191" idx="4"/>
          </p:cNvCxnSpPr>
          <p:nvPr/>
        </p:nvCxnSpPr>
        <p:spPr>
          <a:xfrm>
            <a:off x="7162920" y="1440000"/>
            <a:ext cx="2160" cy="837360"/>
          </a:xfrm>
          <a:prstGeom prst="straightConnector1">
            <a:avLst/>
          </a:prstGeom>
          <a:ln w="38160">
            <a:solidFill>
              <a:srgbClr val="ff00ff"/>
            </a:solidFill>
            <a:miter/>
            <a:headEnd len="sm" type="arrow" w="lg"/>
            <a:tailEnd len="sm" type="arrow" w="lg"/>
          </a:ln>
        </p:spPr>
      </p:cxnSp>
      <p:grpSp>
        <p:nvGrpSpPr>
          <p:cNvPr id="206" name=""/>
          <p:cNvGrpSpPr/>
          <p:nvPr/>
        </p:nvGrpSpPr>
        <p:grpSpPr>
          <a:xfrm>
            <a:off x="5219640" y="620640"/>
            <a:ext cx="2419560" cy="819000"/>
            <a:chOff x="5219640" y="620640"/>
            <a:chExt cx="2419560" cy="819000"/>
          </a:xfrm>
        </p:grpSpPr>
        <p:pic>
          <p:nvPicPr>
            <p:cNvPr id="207" name="" descr=""/>
            <p:cNvPicPr/>
            <p:nvPr/>
          </p:nvPicPr>
          <p:blipFill>
            <a:blip r:embed="rId5"/>
            <a:stretch/>
          </p:blipFill>
          <p:spPr>
            <a:xfrm>
              <a:off x="6686640" y="620640"/>
              <a:ext cx="95256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219640" y="691920"/>
              <a:ext cx="1368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b7ffb7"/>
                  </a:solidFill>
                  <a:latin typeface="Arial"/>
                </a:rPr>
                <a:t>Учетныесистем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5292720" y="5850000"/>
            <a:ext cx="2418840" cy="819000"/>
            <a:chOff x="5292720" y="5850000"/>
            <a:chExt cx="2418840" cy="819000"/>
          </a:xfrm>
        </p:grpSpPr>
        <p:pic>
          <p:nvPicPr>
            <p:cNvPr id="210" name="" descr=""/>
            <p:cNvPicPr/>
            <p:nvPr/>
          </p:nvPicPr>
          <p:blipFill>
            <a:blip r:embed="rId6"/>
            <a:stretch/>
          </p:blipFill>
          <p:spPr>
            <a:xfrm>
              <a:off x="6759360" y="5850000"/>
              <a:ext cx="95220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5292720" y="5921280"/>
              <a:ext cx="1368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7ffb7"/>
                  </a:solidFill>
                  <a:latin typeface="Arial"/>
                </a:rPr>
                <a:t>Внешние систем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12" name=""/>
          <p:cNvCxnSpPr/>
          <p:nvPr/>
        </p:nvCxnSpPr>
        <p:spPr>
          <a:xfrm>
            <a:off x="7164360" y="5113440"/>
            <a:ext cx="2160" cy="837360"/>
          </a:xfrm>
          <a:prstGeom prst="straightConnector1">
            <a:avLst/>
          </a:prstGeom>
          <a:ln w="38160">
            <a:solidFill>
              <a:srgbClr val="ff00ff"/>
            </a:solidFill>
            <a:miter/>
            <a:headEnd len="sm" type="arrow" w="lg"/>
            <a:tailEnd len="sm" type="arrow" w="lg"/>
          </a:ln>
        </p:spPr>
      </p:cxnSp>
    </p:spTree>
  </p:cSld>
  <p:transition>
    <p:zoom dir="out"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500"/>
                            </p:stCondLst>
                            <p:childTnLst>
                              <p:par>
                                <p:cTn id="41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2500"/>
                            </p:stCondLst>
                            <p:childTnLst>
                              <p:par>
                                <p:cTn id="41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3500"/>
                            </p:stCondLst>
                            <p:childTnLst>
                              <p:par>
                                <p:cTn id="420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4500"/>
                            </p:stCondLst>
                            <p:childTnLst>
                              <p:par>
                                <p:cTn id="4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5000"/>
                            </p:stCondLst>
                            <p:childTnLst>
                              <p:par>
                                <p:cTn id="44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6500"/>
                            </p:stCondLst>
                            <p:childTnLst>
                              <p:par>
                                <p:cTn id="45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7500"/>
                            </p:stCondLst>
                            <p:childTnLst>
                              <p:par>
                                <p:cTn id="4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2"/>
            </a:gs>
            <a:gs pos="100000">
              <a:srgbClr val="000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27200" y="384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Sans Unicode"/>
              </a:rPr>
              <a:t>Особенности наследования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60320" y="1101600"/>
            <a:ext cx="7772400" cy="5158080"/>
          </a:xfrm>
          <a:prstGeom prst="rect">
            <a:avLst/>
          </a:prstGeom>
          <a:blipFill rotWithShape="0">
            <a:blip r:embed="rId1"/>
            <a:stretch/>
          </a:blip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6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6120" indent="-2761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нцип построения программных библиотек содержит «ноу-хау», которое дает возможность использовать уже существующие базы дан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6120" indent="-2761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ша технология разработки программных библиотек позволяет интегрироваться с различными системами управления ба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6120" indent="-2761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езультате экономятся средства за счет использования ранее установленных систем и  сокращения сроков внедр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6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61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здана возмож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6120"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ользовать накопленные знан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0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000"/>
                            </p:stCondLst>
                            <p:childTnLst>
                              <p:par>
                                <p:cTn id="468" nodeType="afterEffect" fill="hold" presetClass="entr" presetID="2" presetSubtype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0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5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2"/>
            </a:gs>
            <a:gs pos="100000">
              <a:srgbClr val="000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45920" y="764640"/>
            <a:ext cx="6778440" cy="652680"/>
          </a:xfrm>
          <a:prstGeom prst="rect">
            <a:avLst/>
          </a:prstGeom>
          <a:solidFill>
            <a:srgbClr val="ffffcc"/>
          </a:solidFill>
          <a:ln w="25560">
            <a:solidFill>
              <a:srgbClr val="4d4d4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озможности построения КИ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11280" y="3530880"/>
            <a:ext cx="4105080" cy="398880"/>
          </a:xfrm>
          <a:prstGeom prst="flowChartProcess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базе технологи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B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427640" y="4488120"/>
            <a:ext cx="4105080" cy="1313640"/>
          </a:xfrm>
          <a:prstGeom prst="flowChartProcess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ыковка решений на основ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B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дажи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M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RM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…) с существующими системами уч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7380360" y="1844640"/>
            <a:ext cx="1295280" cy="1214640"/>
          </a:xfrm>
          <a:prstGeom prst="rect">
            <a:avLst/>
          </a:prstGeom>
          <a:ln w="0">
            <a:noFill/>
          </a:ln>
        </p:spPr>
      </p:pic>
      <p:cxnSp>
        <p:nvCxnSpPr>
          <p:cNvPr id="219" name=""/>
          <p:cNvCxnSpPr>
            <a:stCxn id="215" idx="2"/>
            <a:endCxn id="216" idx="0"/>
          </p:cNvCxnSpPr>
          <p:nvPr/>
        </p:nvCxnSpPr>
        <p:spPr>
          <a:xfrm flipH="1">
            <a:off x="2663280" y="1429920"/>
            <a:ext cx="1472040" cy="2097360"/>
          </a:xfrm>
          <a:prstGeom prst="straightConnector1">
            <a:avLst/>
          </a:prstGeom>
          <a:ln w="38160">
            <a:solidFill>
              <a:srgbClr val="ff00ff"/>
            </a:solidFill>
            <a:miter/>
            <a:headEnd len="sm" type="diamond" w="sm"/>
            <a:tailEnd len="lg" type="stealth" w="lg"/>
          </a:ln>
        </p:spPr>
      </p:cxnSp>
      <p:cxnSp>
        <p:nvCxnSpPr>
          <p:cNvPr id="220" name=""/>
          <p:cNvCxnSpPr>
            <a:stCxn id="215" idx="2"/>
            <a:endCxn id="217" idx="0"/>
          </p:cNvCxnSpPr>
          <p:nvPr/>
        </p:nvCxnSpPr>
        <p:spPr>
          <a:xfrm>
            <a:off x="4134960" y="1430280"/>
            <a:ext cx="2345040" cy="3054960"/>
          </a:xfrm>
          <a:prstGeom prst="straightConnector1">
            <a:avLst/>
          </a:prstGeom>
          <a:ln w="38160">
            <a:solidFill>
              <a:srgbClr val="ff00ff"/>
            </a:solidFill>
            <a:miter/>
            <a:headEnd len="sm" type="diamond" w="sm"/>
            <a:tailEnd len="lg" type="stealth" w="lg"/>
          </a:ln>
        </p:spPr>
      </p:cxnSp>
    </p:spTree>
  </p:cSld>
  <p:transition>
    <p:blinds dir="horz"/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500"/>
                            </p:stCondLst>
                            <p:childTnLst>
                              <p:par>
                                <p:cTn id="5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000"/>
                            </p:stCondLst>
                            <p:childTnLst>
                              <p:par>
                                <p:cTn id="52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2"/>
            </a:gs>
            <a:gs pos="100000">
              <a:srgbClr val="000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7ffb7"/>
                </a:solidFill>
                <a:latin typeface="Arial"/>
              </a:rPr>
              <a:t>Развиваем бизнес – развивается система управления бизнес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76720" y="2133720"/>
            <a:ext cx="2663640" cy="9363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NTI™ BOB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76720" y="5229360"/>
            <a:ext cx="2663640" cy="1368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49280" indent="8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овы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9280" indent="8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унк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9280" indent="8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ш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9280" indent="8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змож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156360" y="3571920"/>
            <a:ext cx="2592360" cy="936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аза зн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68360" y="3571920"/>
            <a:ext cx="2592360" cy="9367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четная систе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6" name=""/>
          <p:cNvCxnSpPr>
            <a:stCxn id="225" idx="0"/>
            <a:endCxn id="222" idx="1"/>
          </p:cNvCxnSpPr>
          <p:nvPr/>
        </p:nvCxnSpPr>
        <p:spPr>
          <a:xfrm flipV="1">
            <a:off x="1765440" y="2601720"/>
            <a:ext cx="1512000" cy="970560"/>
          </a:xfrm>
          <a:prstGeom prst="straightConnector1">
            <a:avLst/>
          </a:prstGeom>
          <a:ln w="38160">
            <a:solidFill>
              <a:srgbClr val="ec00ec"/>
            </a:solidFill>
            <a:miter/>
            <a:headEnd len="lg" type="stealth" w="lg"/>
            <a:tailEnd len="lg" type="stealth" w="lg"/>
          </a:ln>
        </p:spPr>
      </p:cxnSp>
      <p:cxnSp>
        <p:nvCxnSpPr>
          <p:cNvPr id="227" name=""/>
          <p:cNvCxnSpPr>
            <a:stCxn id="222" idx="3"/>
            <a:endCxn id="224" idx="0"/>
          </p:cNvCxnSpPr>
          <p:nvPr/>
        </p:nvCxnSpPr>
        <p:spPr>
          <a:xfrm>
            <a:off x="5940000" y="2602080"/>
            <a:ext cx="1513800" cy="970560"/>
          </a:xfrm>
          <a:prstGeom prst="straightConnector1">
            <a:avLst/>
          </a:prstGeom>
          <a:ln w="38160">
            <a:solidFill>
              <a:srgbClr val="ec00ec"/>
            </a:solidFill>
            <a:miter/>
            <a:headEnd len="lg" type="stealth" w="lg"/>
            <a:tailEnd len="lg" type="stealth" w="lg"/>
          </a:ln>
        </p:spPr>
      </p:cxnSp>
      <p:sp>
        <p:nvSpPr>
          <p:cNvPr id="228" name=""/>
          <p:cNvSpPr/>
          <p:nvPr/>
        </p:nvSpPr>
        <p:spPr>
          <a:xfrm>
            <a:off x="4441680" y="3070080"/>
            <a:ext cx="360360" cy="2159280"/>
          </a:xfrm>
          <a:prstGeom prst="downArrow">
            <a:avLst>
              <a:gd name="adj1" fmla="val 50000"/>
              <a:gd name="adj2" fmla="val 149800"/>
            </a:avLst>
          </a:prstGeom>
          <a:gradFill rotWithShape="0">
            <a:gsLst>
              <a:gs pos="0">
                <a:srgbClr val="ffcc99"/>
              </a:gs>
              <a:gs pos="100000">
                <a:srgbClr val="ffe4c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0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000"/>
                            </p:stCondLst>
                            <p:childTnLst>
                              <p:par>
                                <p:cTn id="5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500"/>
                            </p:stCondLst>
                            <p:childTnLst>
                              <p:par>
                                <p:cTn id="5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500"/>
                            </p:stCondLst>
                            <p:childTnLst>
                              <p:par>
                                <p:cTn id="562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32"/>
            </a:gs>
            <a:gs pos="100000">
              <a:srgbClr val="000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57200" y="2247480"/>
            <a:ext cx="8229600" cy="21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3ff4b"/>
                </a:solidFill>
                <a:latin typeface="Arial"/>
              </a:rPr>
              <a:t>Система </a:t>
            </a:r>
            <a:r>
              <a:rPr b="1" lang="en-US" sz="3200" spc="-1" strike="noStrike">
                <a:solidFill>
                  <a:srgbClr val="5fff85"/>
                </a:solidFill>
                <a:latin typeface="Arial"/>
              </a:rPr>
              <a:t>PremierLine</a:t>
            </a:r>
            <a:r>
              <a:rPr b="1" lang="en-US" sz="3200" spc="-1" strike="noStrike" baseline="30000">
                <a:solidFill>
                  <a:srgbClr val="5fff85"/>
                </a:solidFill>
                <a:latin typeface="Arial"/>
              </a:rPr>
              <a:t>®</a:t>
            </a:r>
            <a:r>
              <a:rPr b="1" lang="ru-RU" sz="3200" spc="-1" strike="noStrike">
                <a:solidFill>
                  <a:srgbClr val="5fff85"/>
                </a:solidFill>
                <a:latin typeface="Arial"/>
              </a:rPr>
              <a:t> 2</a:t>
            </a:r>
            <a:r>
              <a:rPr b="1" lang="ru-RU" sz="3200" spc="-1" strike="noStrike">
                <a:solidFill>
                  <a:srgbClr val="13ff4b"/>
                </a:solidFill>
                <a:latin typeface="Arial"/>
              </a:rPr>
              <a:t> предназначена для автоматизации управления продажами и формирования базы зн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32"/>
            </a:gs>
            <a:gs pos="100000">
              <a:srgbClr val="000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63600" algn="just">
              <a:lnSpc>
                <a:spcPct val="90000"/>
              </a:lnSpc>
              <a:spcBef>
                <a:spcPts val="700"/>
              </a:spcBef>
              <a:buClr>
                <a:srgbClr val="13ff4b"/>
              </a:buClr>
              <a:buSzPct val="70000"/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3ff4b"/>
                </a:solidFill>
                <a:latin typeface="Arial"/>
              </a:rPr>
              <a:t>Управление параметрами продаж ведется с любого уда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63600" algn="just">
              <a:lnSpc>
                <a:spcPct val="90000"/>
              </a:lnSpc>
              <a:spcBef>
                <a:spcPts val="700"/>
              </a:spcBef>
              <a:buClr>
                <a:srgbClr val="13ff4b"/>
              </a:buClr>
              <a:buSzPct val="70000"/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3ff4b"/>
                </a:solidFill>
                <a:latin typeface="Arial"/>
              </a:rPr>
              <a:t>Программа в автоматическом режиме передает информацию по адресам и другим модулям сист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63600" algn="just">
              <a:lnSpc>
                <a:spcPct val="90000"/>
              </a:lnSpc>
              <a:spcBef>
                <a:spcPts val="700"/>
              </a:spcBef>
              <a:buClr>
                <a:srgbClr val="13ff4b"/>
              </a:buClr>
              <a:buSzPct val="70000"/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3ff4b"/>
                </a:solidFill>
                <a:latin typeface="Arial"/>
              </a:rPr>
              <a:t>Модуль служит</a:t>
            </a:r>
            <a:r>
              <a:rPr b="1" lang="en-US" sz="2800" spc="-1" strike="noStrike">
                <a:solidFill>
                  <a:srgbClr val="13ff4b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13ff4b"/>
                </a:solidFill>
                <a:latin typeface="Arial"/>
              </a:rPr>
              <a:t>одним из инструментов формирования базы знаний о клиент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63600" algn="just">
              <a:lnSpc>
                <a:spcPct val="90000"/>
              </a:lnSpc>
              <a:spcBef>
                <a:spcPts val="700"/>
              </a:spcBef>
              <a:buClr>
                <a:srgbClr val="13ff4b"/>
              </a:buClr>
              <a:buSzPct val="70000"/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3ff4b"/>
                </a:solidFill>
                <a:latin typeface="Arial"/>
              </a:rPr>
              <a:t>Является частью сист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348000" y="504720"/>
            <a:ext cx="2519280" cy="1312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 Unicode"/>
              </a:rPr>
              <a:t>SalesLine</a:t>
            </a:r>
            <a:r>
              <a:rPr b="0" lang="en-US" sz="3600" spc="-1" strike="noStrike">
                <a:solidFill>
                  <a:srgbClr val="ffffff"/>
                </a:solidFill>
                <a:latin typeface="Lucida Sans Unicode"/>
              </a:rPr>
              <a:t>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0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32"/>
            </a:gs>
            <a:gs pos="100000">
              <a:srgbClr val="000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419640" y="504720"/>
            <a:ext cx="237636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 Unicode"/>
              </a:rPr>
              <a:t>Sales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160800" y="303120"/>
            <a:ext cx="2879640" cy="1038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9d3fe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alesLine</a:t>
            </a:r>
            <a:r>
              <a:rPr b="0" lang="en-US" sz="3400" spc="-1" strike="noStrike" baseline="30000">
                <a:solidFill>
                  <a:srgbClr val="000000"/>
                </a:solidFill>
                <a:latin typeface="Times New Roman"/>
              </a:rPr>
              <a:t>®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174840" y="2708280"/>
            <a:ext cx="2880000" cy="108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ccff"/>
              </a:gs>
              <a:gs pos="100000">
                <a:srgbClr val="b6da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PremierLine</a:t>
            </a:r>
            <a:r>
              <a:rPr b="0" lang="en-US" sz="3400" spc="-1" strike="noStrike" baseline="30000">
                <a:solidFill>
                  <a:srgbClr val="000000"/>
                </a:solidFill>
                <a:latin typeface="Times New Roman"/>
              </a:rPr>
              <a:t>®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Back Offi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763640" y="177336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ffcc"/>
                </a:solidFill>
                <a:latin typeface="Arial"/>
              </a:rPr>
              <a:t>Докумен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651640" y="1628640"/>
            <a:ext cx="266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ffcc"/>
                </a:solidFill>
                <a:latin typeface="Arial"/>
              </a:rPr>
              <a:t>Правила и условия обслужи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5400000">
            <a:off x="3060360" y="1859040"/>
            <a:ext cx="1366920" cy="360360"/>
          </a:xfrm>
          <a:custGeom>
            <a:avLst/>
            <a:gdLst>
              <a:gd name="textAreaLeft" fmla="*/ 213480 w 1366920"/>
              <a:gd name="textAreaRight" fmla="*/ 1196280 w 136692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16200000">
            <a:off x="4788000" y="1830240"/>
            <a:ext cx="1366560" cy="360360"/>
          </a:xfrm>
          <a:custGeom>
            <a:avLst/>
            <a:gdLst>
              <a:gd name="textAreaLeft" fmla="*/ 213480 w 1366560"/>
              <a:gd name="textAreaRight" fmla="*/ 1195920 w 13665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971640" y="4294080"/>
            <a:ext cx="78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ff85"/>
                </a:solidFill>
                <a:latin typeface="Arial"/>
              </a:rPr>
              <a:t>PremierLine</a:t>
            </a:r>
            <a:r>
              <a:rPr b="0" lang="en-US" sz="2000" spc="-1" strike="noStrike" baseline="30000">
                <a:solidFill>
                  <a:srgbClr val="5fff85"/>
                </a:solidFill>
                <a:latin typeface="Arial"/>
              </a:rPr>
              <a:t>®</a:t>
            </a:r>
            <a:r>
              <a:rPr b="0" lang="en-US" sz="2000" spc="-1" strike="noStrike">
                <a:solidFill>
                  <a:srgbClr val="5fff85"/>
                </a:solidFill>
                <a:latin typeface="Arial"/>
              </a:rPr>
              <a:t> BackOffice </a:t>
            </a:r>
            <a:r>
              <a:rPr b="0" lang="ru-RU" sz="2000" spc="-1" strike="noStrike">
                <a:solidFill>
                  <a:srgbClr val="5fff85"/>
                </a:solidFill>
                <a:latin typeface="Arial"/>
              </a:rPr>
              <a:t>предоставляет в </a:t>
            </a:r>
            <a:r>
              <a:rPr b="0" lang="en-US" sz="2000" spc="-1" strike="noStrike">
                <a:solidFill>
                  <a:srgbClr val="5fff85"/>
                </a:solidFill>
                <a:latin typeface="Arial"/>
              </a:rPr>
              <a:t>SalesLine</a:t>
            </a:r>
            <a:r>
              <a:rPr b="0" lang="en-US" sz="2000" spc="-1" strike="noStrike" baseline="30000">
                <a:solidFill>
                  <a:srgbClr val="5fff85"/>
                </a:solidFill>
                <a:latin typeface="Arial"/>
              </a:rPr>
              <a:t>®</a:t>
            </a:r>
            <a:r>
              <a:rPr b="0" lang="en-US" sz="2000" spc="-1" strike="noStrike">
                <a:solidFill>
                  <a:srgbClr val="5fff85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5fff85"/>
                </a:solidFill>
                <a:latin typeface="Arial"/>
              </a:rPr>
              <a:t>информацию о правилах и условиях поставки и позволяет учитывать персональные особенности клиентов и аген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95280" y="553572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ff85"/>
                </a:solidFill>
                <a:latin typeface="Arial"/>
              </a:rPr>
              <a:t>SalesLine</a:t>
            </a:r>
            <a:r>
              <a:rPr b="0" lang="en-US" sz="2000" spc="-1" strike="noStrike" baseline="30000">
                <a:solidFill>
                  <a:srgbClr val="5fff85"/>
                </a:solidFill>
                <a:latin typeface="Arial"/>
              </a:rPr>
              <a:t>®</a:t>
            </a:r>
            <a:r>
              <a:rPr b="0" lang="ru-RU" sz="2000" spc="-1" strike="noStrike">
                <a:solidFill>
                  <a:srgbClr val="5fff85"/>
                </a:solidFill>
                <a:latin typeface="Arial"/>
              </a:rPr>
              <a:t> возвращает 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5fff85"/>
                </a:solidFill>
                <a:latin typeface="Arial"/>
              </a:rPr>
              <a:t>PremierLine</a:t>
            </a:r>
            <a:r>
              <a:rPr b="0" lang="en-US" sz="2000" spc="-1" strike="noStrike" baseline="30000">
                <a:solidFill>
                  <a:srgbClr val="5fff85"/>
                </a:solidFill>
                <a:latin typeface="Arial"/>
              </a:rPr>
              <a:t>®</a:t>
            </a:r>
            <a:r>
              <a:rPr b="0" lang="en-US" sz="2000" spc="-1" strike="noStrike">
                <a:solidFill>
                  <a:srgbClr val="5fff85"/>
                </a:solidFill>
                <a:latin typeface="Arial"/>
              </a:rPr>
              <a:t> BackOffice </a:t>
            </a:r>
            <a:r>
              <a:rPr b="0" lang="ru-RU" sz="2000" spc="-1" strike="noStrike">
                <a:solidFill>
                  <a:srgbClr val="5fff85"/>
                </a:solidFill>
                <a:latin typeface="Arial"/>
              </a:rPr>
              <a:t>знания о клиенте, его запросах и заключенных договор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500"/>
                            </p:stCondLst>
                            <p:childTnLst>
                              <p:par>
                                <p:cTn id="59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1500"/>
                            </p:stCondLst>
                            <p:childTnLst>
                              <p:par>
                                <p:cTn id="594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2500"/>
                            </p:stCondLst>
                            <p:childTnLst>
                              <p:par>
                                <p:cTn id="5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3000"/>
                            </p:stCondLst>
                            <p:childTnLst>
                              <p:par>
                                <p:cTn id="604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3baff"/>
                                </p:to>
                              </p:animCl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500"/>
                            </p:stCondLst>
                            <p:childTnLst>
                              <p:par>
                                <p:cTn id="6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000"/>
                            </p:stCondLst>
                            <p:childTnLst>
                              <p:par>
                                <p:cTn id="62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32"/>
            </a:gs>
            <a:gs pos="100000">
              <a:srgbClr val="000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7ff07"/>
                </a:solidFill>
                <a:latin typeface="Monotype Corsiva"/>
              </a:rPr>
              <a:t>РИНТИ </a:t>
            </a:r>
            <a:r>
              <a:rPr b="1" lang="en-US" sz="3200" spc="-1" strike="noStrike" baseline="30000">
                <a:solidFill>
                  <a:srgbClr val="07ff07"/>
                </a:solidFill>
                <a:latin typeface="Monotype Corsiva"/>
              </a:rPr>
              <a:t>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403280" y="2276280"/>
            <a:ext cx="64008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99"/>
                </a:solidFill>
                <a:latin typeface="Arial"/>
              </a:rPr>
              <a:t>систему автоматизации управления продажами и формирования базы зн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1080" y="105264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ff99"/>
                </a:solidFill>
                <a:latin typeface="Arial"/>
              </a:rPr>
              <a:t>представля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901960" y="4335480"/>
            <a:ext cx="3600000" cy="950400"/>
            <a:chOff x="2901960" y="4335480"/>
            <a:chExt cx="3600000" cy="950400"/>
          </a:xfrm>
        </p:grpSpPr>
        <p:sp>
          <p:nvSpPr>
            <p:cNvPr id="60" name=""/>
            <p:cNvSpPr/>
            <p:nvPr/>
          </p:nvSpPr>
          <p:spPr>
            <a:xfrm>
              <a:off x="2917800" y="4349520"/>
              <a:ext cx="3584160" cy="936360"/>
            </a:xfrm>
            <a:prstGeom prst="rect">
              <a:avLst/>
            </a:prstGeom>
            <a:noFill/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01960" y="4335480"/>
              <a:ext cx="3584160" cy="936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5221440" y="5877000"/>
            <a:ext cx="352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cc"/>
                </a:solidFill>
                <a:latin typeface="Franklin Gothic Medium"/>
              </a:rPr>
              <a:t>Бизнес требует у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917800" y="4559400"/>
            <a:ext cx="359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 Unicode"/>
              </a:rPr>
              <a:t>PremierLine</a:t>
            </a:r>
            <a:r>
              <a:rPr b="0" lang="en-US" sz="3600" spc="-1" strike="noStrike">
                <a:solidFill>
                  <a:srgbClr val="ffffff"/>
                </a:solidFill>
                <a:latin typeface="Lucida Sans Unicode"/>
              </a:rPr>
              <a:t>®</a:t>
            </a:r>
            <a:r>
              <a:rPr b="1" lang="en-US" sz="3600" spc="-1" strike="noStrike">
                <a:solidFill>
                  <a:srgbClr val="ffffff"/>
                </a:solidFill>
                <a:latin typeface="Lucida Sans Unicode"/>
              </a:rPr>
              <a:t>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indefinite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500"/>
                            </p:stCondLst>
                            <p:childTnLst>
                              <p:par>
                                <p:cTn id="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2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2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2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32"/>
            </a:gs>
            <a:gs pos="100000">
              <a:srgbClr val="000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174840" y="2708280"/>
            <a:ext cx="2880000" cy="108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ccff"/>
              </a:gs>
              <a:gs pos="100000">
                <a:srgbClr val="acd5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PremierLine</a:t>
            </a:r>
            <a:r>
              <a:rPr b="0" lang="en-US" sz="3400" spc="-1" strike="noStrike" baseline="30000">
                <a:solidFill>
                  <a:srgbClr val="000000"/>
                </a:solidFill>
                <a:latin typeface="Times New Roman"/>
              </a:rPr>
              <a:t>®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Back Offi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7628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истема </a:t>
            </a:r>
            <a:r>
              <a:rPr b="1" lang="en-US" sz="2800" spc="-1" strike="noStrike">
                <a:solidFill>
                  <a:srgbClr val="99ffcc"/>
                </a:solidFill>
                <a:latin typeface="Arial"/>
              </a:rPr>
              <a:t>RINTI™ PremierLine</a:t>
            </a:r>
            <a:r>
              <a:rPr b="1" lang="en-US" sz="2800" spc="-1" strike="noStrike" baseline="30000">
                <a:solidFill>
                  <a:srgbClr val="99ffcc"/>
                </a:solidFill>
                <a:latin typeface="Arial"/>
              </a:rPr>
              <a:t>®</a:t>
            </a:r>
            <a:r>
              <a:rPr b="1" lang="ru-RU" sz="2800" spc="-1" strike="noStrike">
                <a:solidFill>
                  <a:srgbClr val="99ff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ffcc"/>
                </a:solidFill>
                <a:latin typeface="Arial"/>
              </a:rPr>
              <a:t>BackOffice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имеет модульную структу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468360" y="4581360"/>
            <a:ext cx="2374920" cy="648000"/>
            <a:chOff x="468360" y="4581360"/>
            <a:chExt cx="2374920" cy="648000"/>
          </a:xfrm>
        </p:grpSpPr>
        <p:sp>
          <p:nvSpPr>
            <p:cNvPr id="244" name=""/>
            <p:cNvSpPr/>
            <p:nvPr/>
          </p:nvSpPr>
          <p:spPr>
            <a:xfrm>
              <a:off x="468360" y="4581360"/>
              <a:ext cx="2374920" cy="648000"/>
            </a:xfrm>
            <a:prstGeom prst="flowChartAlternateProcess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96880" y="4667400"/>
              <a:ext cx="2068560" cy="4291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ManagerLine</a:t>
              </a:r>
              <a:r>
                <a:rPr b="1" lang="en-US" sz="2200" spc="-1" strike="noStrike" baseline="30000">
                  <a:solidFill>
                    <a:srgbClr val="000000"/>
                  </a:solidFill>
                  <a:latin typeface="Times New Roman"/>
                </a:rPr>
                <a:t>®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2125800" y="5518080"/>
            <a:ext cx="2374560" cy="647640"/>
            <a:chOff x="2125800" y="5518080"/>
            <a:chExt cx="2374560" cy="647640"/>
          </a:xfrm>
        </p:grpSpPr>
        <p:sp>
          <p:nvSpPr>
            <p:cNvPr id="247" name=""/>
            <p:cNvSpPr/>
            <p:nvPr/>
          </p:nvSpPr>
          <p:spPr>
            <a:xfrm>
              <a:off x="2125800" y="5518080"/>
              <a:ext cx="2374560" cy="647640"/>
            </a:xfrm>
            <a:prstGeom prst="flowChartAlternateProcess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364840" y="5603760"/>
              <a:ext cx="1899720" cy="4291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ProductLine</a:t>
              </a:r>
              <a:r>
                <a:rPr b="1" lang="en-US" sz="2200" spc="-1" strike="noStrike" baseline="30000">
                  <a:solidFill>
                    <a:srgbClr val="000000"/>
                  </a:solidFill>
                  <a:latin typeface="Times New Roman"/>
                </a:rPr>
                <a:t>®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4759200" y="5518080"/>
            <a:ext cx="2374920" cy="647640"/>
            <a:chOff x="4759200" y="5518080"/>
            <a:chExt cx="2374920" cy="647640"/>
          </a:xfrm>
        </p:grpSpPr>
        <p:sp>
          <p:nvSpPr>
            <p:cNvPr id="250" name=""/>
            <p:cNvSpPr/>
            <p:nvPr/>
          </p:nvSpPr>
          <p:spPr>
            <a:xfrm>
              <a:off x="4759200" y="5518080"/>
              <a:ext cx="2374920" cy="647640"/>
            </a:xfrm>
            <a:prstGeom prst="flowChartAlternateProcess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916520" y="5603760"/>
              <a:ext cx="2039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ContractLine</a:t>
              </a:r>
              <a:r>
                <a:rPr b="1" lang="en-US" sz="2200" spc="-1" strike="noStrike" baseline="30000">
                  <a:solidFill>
                    <a:srgbClr val="000000"/>
                  </a:solidFill>
                  <a:latin typeface="Times New Roman"/>
                </a:rPr>
                <a:t>®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6373800" y="4581360"/>
            <a:ext cx="2374560" cy="647640"/>
            <a:chOff x="6373800" y="4581360"/>
            <a:chExt cx="2374560" cy="647640"/>
          </a:xfrm>
        </p:grpSpPr>
        <p:sp>
          <p:nvSpPr>
            <p:cNvPr id="253" name=""/>
            <p:cNvSpPr/>
            <p:nvPr/>
          </p:nvSpPr>
          <p:spPr>
            <a:xfrm>
              <a:off x="6373800" y="4581360"/>
              <a:ext cx="2374560" cy="647640"/>
            </a:xfrm>
            <a:prstGeom prst="flowChartAlternateProcess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612840" y="4667040"/>
              <a:ext cx="1899720" cy="4291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ClientLine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Times New Roman"/>
                </a:rPr>
                <a:t>®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484200" y="1916280"/>
            <a:ext cx="8207280" cy="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6" name=""/>
          <p:cNvCxnSpPr>
            <a:stCxn id="241" idx="2"/>
            <a:endCxn id="244" idx="0"/>
          </p:cNvCxnSpPr>
          <p:nvPr/>
        </p:nvCxnSpPr>
        <p:spPr>
          <a:xfrm flipH="1">
            <a:off x="1655280" y="3789360"/>
            <a:ext cx="2959920" cy="792720"/>
          </a:xfrm>
          <a:prstGeom prst="straightConnector1">
            <a:avLst/>
          </a:prstGeom>
          <a:ln w="25560">
            <a:solidFill>
              <a:srgbClr val="9999ff"/>
            </a:solidFill>
            <a:miter/>
            <a:tailEnd len="med" type="triangle" w="med"/>
          </a:ln>
        </p:spPr>
      </p:cxnSp>
      <p:cxnSp>
        <p:nvCxnSpPr>
          <p:cNvPr id="257" name=""/>
          <p:cNvCxnSpPr>
            <a:stCxn id="241" idx="2"/>
            <a:endCxn id="247" idx="0"/>
          </p:cNvCxnSpPr>
          <p:nvPr/>
        </p:nvCxnSpPr>
        <p:spPr>
          <a:xfrm flipH="1">
            <a:off x="3312720" y="3789360"/>
            <a:ext cx="1302480" cy="1729440"/>
          </a:xfrm>
          <a:prstGeom prst="straightConnector1">
            <a:avLst/>
          </a:prstGeom>
          <a:ln w="25560">
            <a:solidFill>
              <a:srgbClr val="9999ff"/>
            </a:solidFill>
            <a:miter/>
            <a:tailEnd len="med" type="triangle" w="med"/>
          </a:ln>
        </p:spPr>
      </p:cxnSp>
      <p:cxnSp>
        <p:nvCxnSpPr>
          <p:cNvPr id="258" name=""/>
          <p:cNvCxnSpPr>
            <a:stCxn id="241" idx="2"/>
            <a:endCxn id="250" idx="0"/>
          </p:cNvCxnSpPr>
          <p:nvPr/>
        </p:nvCxnSpPr>
        <p:spPr>
          <a:xfrm>
            <a:off x="4614840" y="3789360"/>
            <a:ext cx="1332720" cy="1729440"/>
          </a:xfrm>
          <a:prstGeom prst="straightConnector1">
            <a:avLst/>
          </a:prstGeom>
          <a:ln w="25560">
            <a:solidFill>
              <a:srgbClr val="9999ff"/>
            </a:solidFill>
            <a:miter/>
            <a:tailEnd len="med" type="triangle" w="med"/>
          </a:ln>
        </p:spPr>
      </p:cxnSp>
      <p:cxnSp>
        <p:nvCxnSpPr>
          <p:cNvPr id="259" name=""/>
          <p:cNvCxnSpPr>
            <a:stCxn id="241" idx="2"/>
            <a:endCxn id="253" idx="0"/>
          </p:cNvCxnSpPr>
          <p:nvPr/>
        </p:nvCxnSpPr>
        <p:spPr>
          <a:xfrm>
            <a:off x="4614480" y="3789360"/>
            <a:ext cx="2947320" cy="792720"/>
          </a:xfrm>
          <a:prstGeom prst="straightConnector1">
            <a:avLst/>
          </a:prstGeom>
          <a:ln w="25560">
            <a:solidFill>
              <a:srgbClr val="9999ff"/>
            </a:solidFill>
            <a:miter/>
            <a:tailEnd len="med" type="triangle" w="med"/>
          </a:ln>
        </p:spPr>
      </p:cxnSp>
    </p:spTree>
  </p:cSld>
  <p:transition>
    <p:split dir="in" orient="horz"/>
  </p:transition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0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3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500"/>
                            </p:stCondLst>
                            <p:childTnLst>
                              <p:par>
                                <p:cTn id="63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1500"/>
                            </p:stCondLst>
                            <p:childTnLst>
                              <p:par>
                                <p:cTn id="64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3500"/>
                            </p:stCondLst>
                            <p:childTnLst>
                              <p:par>
                                <p:cTn id="66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4500"/>
                            </p:stCondLst>
                            <p:childTnLst>
                              <p:par>
                                <p:cTn id="6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1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32"/>
            </a:gs>
            <a:gs pos="100000">
              <a:srgbClr val="000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02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dffff"/>
                </a:solidFill>
                <a:latin typeface="Arial"/>
              </a:rPr>
              <a:t>Модуль кадровой службы</a:t>
            </a:r>
            <a:br>
              <a:rPr sz="32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anagerLine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39640" y="181440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cc"/>
                </a:solidFill>
                <a:latin typeface="Franklin Gothic Medium"/>
              </a:rPr>
              <a:t>Предназначен для организации автоматизированного кадрового уче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26920" y="3668760"/>
            <a:ext cx="7777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buClr>
                <a:srgbClr val="99ff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ff99"/>
                </a:solidFill>
                <a:latin typeface="Lucida Sans Unicode"/>
              </a:rPr>
              <a:t>автоматизацию кадрового учета сотрудников организации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buClr>
                <a:srgbClr val="99ff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ff99"/>
                </a:solidFill>
                <a:latin typeface="Lucida Sans Unicode"/>
              </a:rPr>
              <a:t>автоматизированный учет профессиональной деятельности сотрудников</a:t>
            </a:r>
            <a:r>
              <a:rPr b="0" lang="en-US" sz="2200" spc="-1" strike="noStrike">
                <a:solidFill>
                  <a:srgbClr val="99ff99"/>
                </a:solidFill>
                <a:latin typeface="Lucida Sans Unicode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buClr>
                <a:srgbClr val="99ff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ff99"/>
                </a:solidFill>
                <a:latin typeface="Lucida Sans Unicode"/>
              </a:rPr>
              <a:t>планирование и учет обучения и повышения квалификации персонал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buClr>
                <a:srgbClr val="99ff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ff99"/>
                </a:solidFill>
                <a:latin typeface="Lucida Sans Unicode"/>
              </a:rPr>
              <a:t>позволяет учитывать результативность деятельности сотрудни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2838600"/>
            <a:ext cx="79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ff99"/>
                </a:solidFill>
                <a:latin typeface="Lucida Sans Unicode"/>
              </a:rPr>
              <a:t>Кадровым службам модуль позволяет решить следующие задач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84200" y="1589040"/>
            <a:ext cx="8207280" cy="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0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500"/>
                            </p:stCondLst>
                            <p:childTnLst>
                              <p:par>
                                <p:cTn id="71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32"/>
            </a:gs>
            <a:gs pos="100000">
              <a:srgbClr val="000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dffff"/>
                </a:solidFill>
                <a:latin typeface="Arial"/>
              </a:rPr>
              <a:t>Модуль организации работы с клиентами</a:t>
            </a:r>
            <a:br>
              <a:rPr sz="32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entLine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39640" y="184464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cc"/>
                </a:solidFill>
                <a:latin typeface="Franklin Gothic Medium"/>
              </a:rPr>
              <a:t>Предназначен для организации работы с потенциальными и действующими клиентам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6ffcc"/>
                </a:solidFill>
                <a:latin typeface="Franklin Gothic Medium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23800" y="2930400"/>
            <a:ext cx="792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ff99"/>
                </a:solidFill>
                <a:latin typeface="Lucida Sans Unicode"/>
              </a:rPr>
              <a:t>Модуль позволяет решать следующие задач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26920" y="3789360"/>
            <a:ext cx="749016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buClr>
                <a:srgbClr val="99ff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ff99"/>
                </a:solidFill>
                <a:latin typeface="Lucida Sans Unicode"/>
              </a:rPr>
              <a:t>накапливать, структурировать и анализировать информацию о клиентах</a:t>
            </a:r>
            <a:r>
              <a:rPr b="0" lang="en-US" sz="2200" spc="-1" strike="noStrike">
                <a:solidFill>
                  <a:srgbClr val="99ff99"/>
                </a:solidFill>
                <a:latin typeface="Lucida Sans Unicode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buClr>
                <a:srgbClr val="99ff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ff99"/>
                </a:solidFill>
                <a:latin typeface="Lucida Sans Unicode"/>
              </a:rPr>
              <a:t>вести индивидуальную работу с клиентом</a:t>
            </a:r>
            <a:r>
              <a:rPr b="0" lang="en-US" sz="2200" spc="-1" strike="noStrike">
                <a:solidFill>
                  <a:srgbClr val="99ff99"/>
                </a:solidFill>
                <a:latin typeface="Lucida Sans Unicode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buClr>
                <a:srgbClr val="99ff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ff99"/>
                </a:solidFill>
                <a:latin typeface="Lucida Sans Unicode"/>
              </a:rPr>
              <a:t>вести учет сотрудников компании, принимавших участие в заключении договоров</a:t>
            </a:r>
            <a:r>
              <a:rPr b="0" lang="en-US" sz="2200" spc="-1" strike="noStrike">
                <a:solidFill>
                  <a:srgbClr val="99ff99"/>
                </a:solidFill>
                <a:latin typeface="Lucida Sans Unicode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4200" y="1589040"/>
            <a:ext cx="8207280" cy="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0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500"/>
                            </p:stCondLst>
                            <p:childTnLst>
                              <p:par>
                                <p:cTn id="72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32"/>
            </a:gs>
            <a:gs pos="100000">
              <a:srgbClr val="000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8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dffff"/>
                </a:solidFill>
                <a:latin typeface="Arial"/>
              </a:rPr>
              <a:t>Модуль учета видов услуг и правил их предоставления</a:t>
            </a:r>
            <a:br>
              <a:rPr sz="32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oductLine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39640" y="184464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cc"/>
                </a:solidFill>
                <a:latin typeface="Franklin Gothic Medium"/>
              </a:rPr>
              <a:t>Предназначен для учета видов услуг, предоставляемых организацией и правил их предостав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26920" y="3656160"/>
            <a:ext cx="763272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buClr>
                <a:srgbClr val="99ff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ff99"/>
                </a:solidFill>
                <a:latin typeface="Lucida Sans Unicode"/>
              </a:rPr>
              <a:t>формировать базу данных по предоставляемым услугам и правилам их предоставления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buClr>
                <a:srgbClr val="99ff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ff99"/>
                </a:solidFill>
                <a:latin typeface="Lucida Sans Unicode"/>
              </a:rPr>
              <a:t>накапливать статистику и формировать отчеты по убыточности и доходности услуг компании</a:t>
            </a:r>
            <a:r>
              <a:rPr b="0" lang="en-US" sz="2200" spc="-1" strike="noStrike">
                <a:solidFill>
                  <a:srgbClr val="99ff99"/>
                </a:solidFill>
                <a:latin typeface="Lucida Sans Unicode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buClr>
                <a:srgbClr val="99ff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ff99"/>
                </a:solidFill>
                <a:latin typeface="Lucida Sans Unicode"/>
              </a:rPr>
              <a:t>накапливать статистику и формировать отчеты по востребованности услуг компании в зависимости от условий их предоставл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3800" y="3002040"/>
            <a:ext cx="792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ff99"/>
                </a:solidFill>
                <a:latin typeface="Lucida Sans Unicode"/>
              </a:rPr>
              <a:t>Модуль позволяет решать следующие задач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84200" y="1700280"/>
            <a:ext cx="8207280" cy="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0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500"/>
                            </p:stCondLst>
                            <p:childTnLst>
                              <p:par>
                                <p:cTn id="74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32"/>
            </a:gs>
            <a:gs pos="100000">
              <a:srgbClr val="000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dffff"/>
                </a:solidFill>
                <a:latin typeface="Arial"/>
              </a:rPr>
              <a:t>Модуль учета и ведения договоров</a:t>
            </a:r>
            <a:br>
              <a:rPr sz="32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tractLine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39640" y="173664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cc"/>
                </a:solidFill>
                <a:latin typeface="Franklin Gothic Medium"/>
              </a:rPr>
              <a:t>Предназначен для организации учета подготавливаемых, действующих и архивных договоров на оказание услуг клиентам компан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23800" y="3146400"/>
            <a:ext cx="792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ff99"/>
                </a:solidFill>
                <a:latin typeface="Lucida Sans Unicode"/>
              </a:rPr>
              <a:t>Модуль позволяет решать следующие задач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26920" y="3681360"/>
            <a:ext cx="7632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buClr>
                <a:srgbClr val="99ff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ff99"/>
                </a:solidFill>
                <a:latin typeface="Lucida Sans Unicode"/>
              </a:rPr>
              <a:t>организовывать общий учет и историю договоров с клиентами компании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buClr>
                <a:srgbClr val="99ff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ff99"/>
                </a:solidFill>
                <a:latin typeface="Lucida Sans Unicode"/>
              </a:rPr>
              <a:t>проводить анализ прибыльности договоров</a:t>
            </a:r>
            <a:r>
              <a:rPr b="0" lang="en-US" sz="2200" spc="-1" strike="noStrike">
                <a:solidFill>
                  <a:srgbClr val="99ff99"/>
                </a:solidFill>
                <a:latin typeface="Lucida Sans Unicode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buClr>
                <a:srgbClr val="99ff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ff99"/>
                </a:solidFill>
                <a:latin typeface="Lucida Sans Unicode"/>
              </a:rPr>
              <a:t>проводить сравнительный анализ востребованности услуг компании в зависимости от условий представления услуг</a:t>
            </a:r>
            <a:r>
              <a:rPr b="0" lang="en-US" sz="2200" spc="-1" strike="noStrike">
                <a:solidFill>
                  <a:srgbClr val="99ff99"/>
                </a:solidFill>
                <a:latin typeface="Lucida Sans Unicode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buClr>
                <a:srgbClr val="99ff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ff99"/>
                </a:solidFill>
                <a:latin typeface="Lucida Sans Unicode"/>
              </a:rPr>
              <a:t>проводить анализ эффективности продаж услуг в зависимости от различных условий</a:t>
            </a:r>
            <a:r>
              <a:rPr b="0" lang="ru-RU" sz="2200" spc="-1" strike="noStrike">
                <a:solidFill>
                  <a:srgbClr val="99ff99"/>
                </a:solidFill>
                <a:latin typeface="Lucida Sans Unicode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84200" y="1589040"/>
            <a:ext cx="8207280" cy="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0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500"/>
                            </p:stCondLst>
                            <p:childTnLst>
                              <p:par>
                                <p:cTn id="75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2"/>
            </a:gs>
            <a:gs pos="100000">
              <a:srgbClr val="000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85800" y="1623960"/>
            <a:ext cx="7702560" cy="33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ff99"/>
                </a:solidFill>
                <a:latin typeface="Arial"/>
              </a:rPr>
              <a:t>Может неограниченно расширяться самим пользователем и дает возможность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363600" algn="just"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ff99"/>
                </a:solidFill>
                <a:latin typeface="Arial"/>
              </a:rPr>
              <a:t>создавать бизнес приложени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ff99"/>
                </a:solidFill>
                <a:latin typeface="Arial"/>
              </a:rPr>
              <a:t>управлять параметрами продаж и предоставления услуг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ff99"/>
                </a:solidFill>
                <a:latin typeface="Arial"/>
              </a:rPr>
              <a:t>конструировать сложные схемы аналитических запросов из единой базы знаний.</a:t>
            </a:r>
            <a:r>
              <a:rPr b="0" lang="en-US" sz="2600" spc="-1" strike="noStrike">
                <a:solidFill>
                  <a:srgbClr val="99ff99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900000" y="692280"/>
            <a:ext cx="75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Arial Narrow"/>
              </a:rPr>
              <a:t>Революционные возможности разви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11280" y="5330880"/>
            <a:ext cx="79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ffcc"/>
                </a:solidFill>
                <a:latin typeface="Arial"/>
              </a:rPr>
              <a:t>Наша технология позволяет свести к минимуму затраты на строительство информационной систем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0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32"/>
            </a:gs>
            <a:gs pos="100000">
              <a:srgbClr val="000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3" name=""/>
          <p:cNvGraphicFramePr/>
          <p:nvPr/>
        </p:nvGraphicFramePr>
        <p:xfrm>
          <a:off x="538200" y="1855800"/>
          <a:ext cx="806760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8200" y="1855800"/>
                    <a:ext cx="80676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"/>
          <p:cNvSpPr/>
          <p:nvPr/>
        </p:nvSpPr>
        <p:spPr>
          <a:xfrm>
            <a:off x="395280" y="1160640"/>
            <a:ext cx="84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Левая часть интерфейса содержит дерево установленных моду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11200" y="2460600"/>
            <a:ext cx="2951280" cy="345600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340000" y="212760"/>
            <a:ext cx="42498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Sans Unicode"/>
              </a:rPr>
              <a:t>PremierLine</a:t>
            </a: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®</a:t>
            </a:r>
            <a:r>
              <a:rPr b="1" lang="en-US" sz="2400" spc="-1" strike="noStrike">
                <a:solidFill>
                  <a:srgbClr val="ffffff"/>
                </a:solidFill>
                <a:latin typeface="Lucida Sans Unicode"/>
              </a:rPr>
              <a:t> Back Off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32"/>
            </a:gs>
            <a:gs pos="100000">
              <a:srgbClr val="000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8" name=""/>
          <p:cNvGraphicFramePr/>
          <p:nvPr/>
        </p:nvGraphicFramePr>
        <p:xfrm>
          <a:off x="538200" y="1855800"/>
          <a:ext cx="806760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8200" y="1855800"/>
                    <a:ext cx="80676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"/>
          <p:cNvSpPr/>
          <p:nvPr/>
        </p:nvSpPr>
        <p:spPr>
          <a:xfrm>
            <a:off x="3333600" y="2460600"/>
            <a:ext cx="5313600" cy="345600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68360" y="1197000"/>
            <a:ext cx="838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cc"/>
                </a:solidFill>
                <a:latin typeface="Arial"/>
              </a:rPr>
              <a:t>Правая часть является рабочей областью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6ffcc"/>
                </a:solidFill>
                <a:latin typeface="Arial"/>
              </a:rPr>
              <a:t>моду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340000" y="212760"/>
            <a:ext cx="42498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Sans Unicode"/>
              </a:rPr>
              <a:t>PremierLine</a:t>
            </a: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®</a:t>
            </a:r>
            <a:r>
              <a:rPr b="1" lang="en-US" sz="2400" spc="-1" strike="noStrike">
                <a:solidFill>
                  <a:srgbClr val="ffffff"/>
                </a:solidFill>
                <a:latin typeface="Lucida Sans Unicode"/>
              </a:rPr>
              <a:t> Back Off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0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500"/>
                            </p:stCondLst>
                            <p:childTnLst>
                              <p:par>
                                <p:cTn id="801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32"/>
            </a:gs>
            <a:gs pos="100000">
              <a:srgbClr val="000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3" name=""/>
          <p:cNvGraphicFramePr/>
          <p:nvPr/>
        </p:nvGraphicFramePr>
        <p:xfrm>
          <a:off x="538200" y="1600200"/>
          <a:ext cx="806760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8200" y="1600200"/>
                    <a:ext cx="80676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26920" y="274680"/>
            <a:ext cx="76327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ffcc"/>
                </a:solidFill>
                <a:latin typeface="Arial"/>
              </a:rPr>
              <a:t>В каждом модуле есть три основных режима просмотр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96960" y="851040"/>
            <a:ext cx="79786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66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список объек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794120" y="2247840"/>
            <a:ext cx="252720" cy="252360"/>
          </a:xfrm>
          <a:prstGeom prst="flowChartAlternateProcess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338640" y="2527200"/>
            <a:ext cx="5308560" cy="316872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fill="hold">
                      <p:stCondLst>
                        <p:cond delay="0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1000"/>
                            </p:stCondLst>
                            <p:childTnLst>
                              <p:par>
                                <p:cTn id="816" nodeType="after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2000"/>
                            </p:stCondLst>
                            <p:childTnLst>
                              <p:par>
                                <p:cTn id="82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32"/>
            </a:gs>
            <a:gs pos="100000">
              <a:srgbClr val="000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9" name=""/>
          <p:cNvGraphicFramePr/>
          <p:nvPr/>
        </p:nvGraphicFramePr>
        <p:xfrm>
          <a:off x="538200" y="1600200"/>
          <a:ext cx="806760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8200" y="1600200"/>
                    <a:ext cx="80676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26920" y="274680"/>
            <a:ext cx="76327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ffcc"/>
                </a:solidFill>
                <a:latin typeface="Arial"/>
              </a:rPr>
              <a:t>В каждом модуле есть три основных режима просмотр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96960" y="851040"/>
            <a:ext cx="79786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66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информация по объек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022720" y="2257560"/>
            <a:ext cx="225720" cy="225360"/>
          </a:xfrm>
          <a:prstGeom prst="flowChartAlternateProcess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333600" y="2517840"/>
            <a:ext cx="5313600" cy="299880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fill="hold">
                      <p:stCondLst>
                        <p:cond delay="0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500"/>
                            </p:stCondLst>
                            <p:childTnLst>
                              <p:par>
                                <p:cTn id="835" nodeType="after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2000"/>
                            </p:stCondLst>
                            <p:childTnLst>
                              <p:par>
                                <p:cTn id="839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2"/>
            </a:gs>
            <a:gs pos="100000">
              <a:srgbClr val="000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68360" y="1566720"/>
            <a:ext cx="8229600" cy="36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ffcc"/>
                </a:solidFill>
                <a:latin typeface="Arial"/>
              </a:rPr>
              <a:t>РИНТИ</a:t>
            </a:r>
            <a:r>
              <a:rPr b="1" lang="en-US" sz="2800" spc="-1" strike="noStrike">
                <a:solidFill>
                  <a:srgbClr val="99ffcc"/>
                </a:solidFill>
                <a:latin typeface="Arial"/>
              </a:rPr>
              <a:t>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ы создаем информационные технологии оптимизации бизнес процес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ш клиент получает эффективные и экономичные методы продвижения продуктов и услуг к потребител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32"/>
            </a:gs>
            <a:gs pos="100000">
              <a:srgbClr val="000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5" name=""/>
          <p:cNvGraphicFramePr/>
          <p:nvPr/>
        </p:nvGraphicFramePr>
        <p:xfrm>
          <a:off x="538200" y="1600200"/>
          <a:ext cx="806760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8200" y="1600200"/>
                    <a:ext cx="80676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26920" y="274680"/>
            <a:ext cx="76327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ffcc"/>
                </a:solidFill>
                <a:latin typeface="Arial"/>
              </a:rPr>
              <a:t>В каждом модуле есть три основных режима просмотр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96960" y="851040"/>
            <a:ext cx="79786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66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сводная информация по объек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229360" y="2247840"/>
            <a:ext cx="252360" cy="252360"/>
          </a:xfrm>
          <a:prstGeom prst="flowChartAlternateProcess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319560" y="2535120"/>
            <a:ext cx="5327640" cy="300996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0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500"/>
                            </p:stCondLst>
                            <p:childTnLst>
                              <p:par>
                                <p:cTn id="854" nodeType="after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2000"/>
                            </p:stCondLst>
                            <p:childTnLst>
                              <p:par>
                                <p:cTn id="858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2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32"/>
            </a:gs>
            <a:gs pos="100000">
              <a:srgbClr val="000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ffcc"/>
                </a:solidFill>
                <a:latin typeface="Arial"/>
              </a:rPr>
              <a:t>Вы формируете собственную систему параметров для каждого объект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554040" y="1565280"/>
          <a:ext cx="8035920" cy="46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4040" y="1565280"/>
                    <a:ext cx="8035920" cy="46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1144440" y="3112920"/>
            <a:ext cx="1392480" cy="235080"/>
          </a:xfrm>
          <a:prstGeom prst="flowChartAlternateProcess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348000" y="2205000"/>
            <a:ext cx="5284800" cy="345600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556000" y="3213000"/>
            <a:ext cx="792000" cy="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rot="18900000">
            <a:off x="3276360" y="3284280"/>
            <a:ext cx="691920" cy="126720"/>
          </a:xfrm>
          <a:prstGeom prst="rightArrow">
            <a:avLst>
              <a:gd name="adj1" fmla="val 50000"/>
              <a:gd name="adj2" fmla="val 1365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3"/>
          <a:stretch/>
        </p:blipFill>
        <p:spPr>
          <a:xfrm>
            <a:off x="3348000" y="2349360"/>
            <a:ext cx="2565360" cy="28800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1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1000"/>
                            </p:stCondLst>
                            <p:childTnLst>
                              <p:par>
                                <p:cTn id="87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1500"/>
                            </p:stCondLst>
                            <p:childTnLst>
                              <p:par>
                                <p:cTn id="877" nodeType="after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8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8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8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500"/>
                            </p:stCondLst>
                            <p:childTnLst>
                              <p:par>
                                <p:cTn id="8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1000"/>
                            </p:stCondLst>
                            <p:childTnLst>
                              <p:par>
                                <p:cTn id="897" nodeType="after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8" dur="250" autoRev="1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99" dur="250" autoRev="1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00" dur="250" autoRev="1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2500"/>
                            </p:stCondLst>
                            <p:childTnLst>
                              <p:par>
                                <p:cTn id="902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65896E-006 L 0.21267 0.15722 E">
                                      <p:cBhvr>
                                        <p:cTn id="903" dur="10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3500"/>
                            </p:stCondLst>
                            <p:childTnLst>
                              <p:par>
                                <p:cTn id="905" nodeType="after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6" dur="250" autoRev="1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07" dur="250" autoRev="1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08" dur="250" autoRev="1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5000"/>
                            </p:stCondLst>
                            <p:childTnLst>
                              <p:par>
                                <p:cTn id="910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1267 0.15722 L 0.0158 -0.10659 E">
                                      <p:cBhvr>
                                        <p:cTn id="911" dur="10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6000"/>
                            </p:stCondLst>
                            <p:childTnLst>
                              <p:par>
                                <p:cTn id="913" nodeType="after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4" dur="250" autoRev="1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15" dur="250" autoRev="1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16" dur="250" autoRev="1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3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2"/>
            </a:gs>
            <a:gs pos="100000">
              <a:srgbClr val="000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Arial"/>
              </a:rPr>
              <a:t>RINTI™ BOBi</a:t>
            </a:r>
            <a:r>
              <a:rPr b="1" lang="en-US" sz="3200" spc="-1" strike="noStrike" baseline="30000">
                <a:solidFill>
                  <a:srgbClr val="99ffcc"/>
                </a:solidFill>
                <a:latin typeface="Arial"/>
              </a:rPr>
              <a:t>®</a:t>
            </a:r>
            <a:r>
              <a:rPr b="1" lang="en-US" sz="3200" spc="-1" strike="noStrike">
                <a:solidFill>
                  <a:srgbClr val="99ffcc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99ffcc"/>
                </a:solidFill>
                <a:latin typeface="Arial"/>
              </a:rPr>
              <a:t>реализует определяющие факторы успеха любого бизнес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55280" y="2708280"/>
            <a:ext cx="777708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1720" indent="-531720">
              <a:spcBef>
                <a:spcPts val="700"/>
              </a:spcBef>
              <a:buClr>
                <a:srgbClr val="99ff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ff99"/>
                </a:solidFill>
                <a:latin typeface="Arial"/>
              </a:rPr>
              <a:t>Нацеленность на получение прибыли через организацию эффективных продаж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spcBef>
                <a:spcPts val="700"/>
              </a:spcBef>
              <a:buClr>
                <a:srgbClr val="99ff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ff99"/>
                </a:solidFill>
                <a:latin typeface="Arial"/>
              </a:rPr>
              <a:t>Ориентированность на клиен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spcBef>
                <a:spcPts val="700"/>
              </a:spcBef>
              <a:buClr>
                <a:srgbClr val="99ff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ff99"/>
                </a:solidFill>
                <a:latin typeface="Arial"/>
              </a:rPr>
              <a:t>Гибкость, настраиваемость и расширяемость информационной системы компа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2"/>
            </a:gs>
            <a:gs pos="100000">
              <a:srgbClr val="000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1044720" y="3213000"/>
            <a:ext cx="7056360" cy="3024360"/>
            <a:chOff x="1044720" y="3213000"/>
            <a:chExt cx="7056360" cy="3024360"/>
          </a:xfrm>
        </p:grpSpPr>
        <p:sp>
          <p:nvSpPr>
            <p:cNvPr id="66" name=""/>
            <p:cNvSpPr/>
            <p:nvPr/>
          </p:nvSpPr>
          <p:spPr>
            <a:xfrm>
              <a:off x="1044720" y="3213000"/>
              <a:ext cx="7056360" cy="302436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219640" y="5479920"/>
              <a:ext cx="208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Бизнес-объек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Бизнес - объек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Бизнес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-</a:t>
            </a: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объект –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это информационная структура, отражающая сущность реального бизнес-процес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89080" y="4142160"/>
            <a:ext cx="3673440" cy="797040"/>
          </a:xfrm>
          <a:prstGeom prst="foldedCorner">
            <a:avLst>
              <a:gd name="adj" fmla="val 12500"/>
            </a:avLst>
          </a:prstGeom>
          <a:solidFill>
            <a:srgbClr val="b1ff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авила функционирования бизне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148360" y="4284720"/>
            <a:ext cx="2017440" cy="797040"/>
          </a:xfrm>
          <a:prstGeom prst="foldedCorner">
            <a:avLst>
              <a:gd name="adj" fmla="val 12500"/>
            </a:avLst>
          </a:prstGeom>
          <a:solidFill>
            <a:srgbClr val="b1ff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ервисы пользоват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89080" y="5293080"/>
            <a:ext cx="3959280" cy="797040"/>
          </a:xfrm>
          <a:prstGeom prst="foldedCorner">
            <a:avLst>
              <a:gd name="adj" fmla="val 12500"/>
            </a:avLst>
          </a:prstGeom>
          <a:solidFill>
            <a:srgbClr val="b1ff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рфейс взаимодействия с другими бизнес-объект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2"/>
            </a:gs>
            <a:gs pos="100000">
              <a:srgbClr val="000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3140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99"/>
                </a:solidFill>
                <a:latin typeface="Arial"/>
              </a:rPr>
              <a:t>Сопоставление возможно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5300640"/>
            <a:ext cx="1944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Вы может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0920" y="1125360"/>
            <a:ext cx="44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) Классические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SE-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редств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1935000"/>
            <a:ext cx="475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1ffd8"/>
                </a:solidFill>
                <a:latin typeface="Arial"/>
              </a:rPr>
              <a:t>Бизнес-процессы жестко «зашиты» внутри бизнес-объек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330660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) Технология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INTI™ BOBy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®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44720" y="4167360"/>
            <a:ext cx="403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1ffd8"/>
                </a:solidFill>
                <a:latin typeface="Arial"/>
              </a:rPr>
              <a:t>Можно управлять «начинкой» бизнес-объек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5278320" y="981000"/>
            <a:ext cx="820440" cy="718920"/>
            <a:chOff x="5278320" y="981000"/>
            <a:chExt cx="820440" cy="718920"/>
          </a:xfrm>
        </p:grpSpPr>
        <p:grpSp>
          <p:nvGrpSpPr>
            <p:cNvPr id="80" name=""/>
            <p:cNvGrpSpPr/>
            <p:nvPr/>
          </p:nvGrpSpPr>
          <p:grpSpPr>
            <a:xfrm>
              <a:off x="5306760" y="981000"/>
              <a:ext cx="792000" cy="718920"/>
              <a:chOff x="5306760" y="981000"/>
              <a:chExt cx="792000" cy="718920"/>
            </a:xfrm>
          </p:grpSpPr>
          <p:sp>
            <p:nvSpPr>
              <p:cNvPr id="81" name=""/>
              <p:cNvSpPr/>
              <p:nvPr/>
            </p:nvSpPr>
            <p:spPr>
              <a:xfrm>
                <a:off x="5306760" y="981000"/>
                <a:ext cx="792000" cy="71892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619240" y="1412640"/>
                <a:ext cx="215640" cy="216000"/>
              </a:xfrm>
              <a:prstGeom prst="noSmoking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5278320" y="1139760"/>
              <a:ext cx="28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6431040" y="981000"/>
            <a:ext cx="820800" cy="718920"/>
            <a:chOff x="6431040" y="981000"/>
            <a:chExt cx="820800" cy="718920"/>
          </a:xfrm>
        </p:grpSpPr>
        <p:grpSp>
          <p:nvGrpSpPr>
            <p:cNvPr id="85" name=""/>
            <p:cNvGrpSpPr/>
            <p:nvPr/>
          </p:nvGrpSpPr>
          <p:grpSpPr>
            <a:xfrm>
              <a:off x="6459480" y="981000"/>
              <a:ext cx="792360" cy="718920"/>
              <a:chOff x="6459480" y="981000"/>
              <a:chExt cx="792360" cy="718920"/>
            </a:xfrm>
          </p:grpSpPr>
          <p:sp>
            <p:nvSpPr>
              <p:cNvPr id="86" name=""/>
              <p:cNvSpPr/>
              <p:nvPr/>
            </p:nvSpPr>
            <p:spPr>
              <a:xfrm>
                <a:off x="6459480" y="981000"/>
                <a:ext cx="792360" cy="71892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772320" y="1412640"/>
                <a:ext cx="216000" cy="216000"/>
              </a:xfrm>
              <a:prstGeom prst="noSmoking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6431040" y="1139760"/>
              <a:ext cx="28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5292720" y="2060640"/>
            <a:ext cx="806400" cy="718920"/>
            <a:chOff x="5292720" y="2060640"/>
            <a:chExt cx="806400" cy="718920"/>
          </a:xfrm>
        </p:grpSpPr>
        <p:grpSp>
          <p:nvGrpSpPr>
            <p:cNvPr id="90" name=""/>
            <p:cNvGrpSpPr/>
            <p:nvPr/>
          </p:nvGrpSpPr>
          <p:grpSpPr>
            <a:xfrm>
              <a:off x="5307120" y="2060640"/>
              <a:ext cx="792000" cy="718920"/>
              <a:chOff x="5307120" y="2060640"/>
              <a:chExt cx="792000" cy="718920"/>
            </a:xfrm>
          </p:grpSpPr>
          <p:sp>
            <p:nvSpPr>
              <p:cNvPr id="91" name=""/>
              <p:cNvSpPr/>
              <p:nvPr/>
            </p:nvSpPr>
            <p:spPr>
              <a:xfrm>
                <a:off x="5307120" y="2060640"/>
                <a:ext cx="792000" cy="71892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619600" y="2492280"/>
                <a:ext cx="215640" cy="216000"/>
              </a:xfrm>
              <a:prstGeom prst="noSmoking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5292720" y="2204640"/>
              <a:ext cx="28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248440" y="3157560"/>
            <a:ext cx="835920" cy="719280"/>
            <a:chOff x="5248440" y="3157560"/>
            <a:chExt cx="835920" cy="719280"/>
          </a:xfrm>
        </p:grpSpPr>
        <p:sp>
          <p:nvSpPr>
            <p:cNvPr id="95" name=""/>
            <p:cNvSpPr/>
            <p:nvPr/>
          </p:nvSpPr>
          <p:spPr>
            <a:xfrm>
              <a:off x="5292360" y="3157560"/>
              <a:ext cx="792000" cy="719280"/>
            </a:xfrm>
            <a:prstGeom prst="cube">
              <a:avLst>
                <a:gd name="adj" fmla="val 25000"/>
              </a:avLst>
            </a:prstGeom>
            <a:solidFill>
              <a:srgbClr val="d7ff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508360" y="3460680"/>
              <a:ext cx="28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508360" y="3546360"/>
              <a:ext cx="28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364000" y="3618000"/>
              <a:ext cx="36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64000" y="3691080"/>
              <a:ext cx="28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364000" y="3776760"/>
              <a:ext cx="43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248440" y="3301920"/>
              <a:ext cx="2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6400800" y="3157560"/>
            <a:ext cx="836640" cy="719280"/>
            <a:chOff x="6400800" y="3157560"/>
            <a:chExt cx="836640" cy="719280"/>
          </a:xfrm>
        </p:grpSpPr>
        <p:sp>
          <p:nvSpPr>
            <p:cNvPr id="103" name=""/>
            <p:cNvSpPr/>
            <p:nvPr/>
          </p:nvSpPr>
          <p:spPr>
            <a:xfrm>
              <a:off x="6445440" y="3157560"/>
              <a:ext cx="792000" cy="719280"/>
            </a:xfrm>
            <a:prstGeom prst="cube">
              <a:avLst>
                <a:gd name="adj" fmla="val 25000"/>
              </a:avLst>
            </a:prstGeom>
            <a:solidFill>
              <a:srgbClr val="d7ff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789960" y="3603600"/>
              <a:ext cx="215640" cy="216000"/>
            </a:xfrm>
            <a:prstGeom prst="lightningBol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400800" y="3301920"/>
              <a:ext cx="28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5262480" y="4222800"/>
            <a:ext cx="822240" cy="718920"/>
            <a:chOff x="5262480" y="4222800"/>
            <a:chExt cx="822240" cy="718920"/>
          </a:xfrm>
        </p:grpSpPr>
        <p:sp>
          <p:nvSpPr>
            <p:cNvPr id="107" name=""/>
            <p:cNvSpPr/>
            <p:nvPr/>
          </p:nvSpPr>
          <p:spPr>
            <a:xfrm>
              <a:off x="5292360" y="4222800"/>
              <a:ext cx="792360" cy="718920"/>
            </a:xfrm>
            <a:prstGeom prst="cube">
              <a:avLst>
                <a:gd name="adj" fmla="val 25000"/>
              </a:avLst>
            </a:prstGeom>
            <a:solidFill>
              <a:srgbClr val="d7ff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B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262480" y="4352760"/>
              <a:ext cx="28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 flipV="1">
            <a:off x="5681520" y="1699920"/>
            <a:ext cx="0" cy="431640"/>
          </a:xfrm>
          <a:prstGeom prst="line">
            <a:avLst/>
          </a:prstGeom>
          <a:ln w="50760">
            <a:solidFill>
              <a:srgbClr val="178bff"/>
            </a:solidFill>
            <a:miter/>
            <a:headEnd len="sm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27840" y="1339920"/>
            <a:ext cx="431640" cy="0"/>
          </a:xfrm>
          <a:prstGeom prst="line">
            <a:avLst/>
          </a:prstGeom>
          <a:ln w="50760">
            <a:solidFill>
              <a:srgbClr val="178bff"/>
            </a:solidFill>
            <a:miter/>
            <a:headEnd len="sm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386400" y="981000"/>
            <a:ext cx="1958760" cy="1800000"/>
            <a:chOff x="6386400" y="981000"/>
            <a:chExt cx="1958760" cy="1800000"/>
          </a:xfrm>
        </p:grpSpPr>
        <p:grpSp>
          <p:nvGrpSpPr>
            <p:cNvPr id="112" name=""/>
            <p:cNvGrpSpPr/>
            <p:nvPr/>
          </p:nvGrpSpPr>
          <p:grpSpPr>
            <a:xfrm>
              <a:off x="7524720" y="2062080"/>
              <a:ext cx="820440" cy="718920"/>
              <a:chOff x="7524720" y="2062080"/>
              <a:chExt cx="820440" cy="7189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7553160" y="2062080"/>
                <a:ext cx="792000" cy="718920"/>
                <a:chOff x="7553160" y="2062080"/>
                <a:chExt cx="792000" cy="7189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7553160" y="2062080"/>
                  <a:ext cx="792000" cy="718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7865640" y="2493720"/>
                  <a:ext cx="215640" cy="216000"/>
                </a:xfrm>
                <a:prstGeom prst="noSmoking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524720" y="2220840"/>
                <a:ext cx="288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7524720" y="981000"/>
              <a:ext cx="820080" cy="718920"/>
              <a:chOff x="7524720" y="981000"/>
              <a:chExt cx="820080" cy="71892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7552800" y="981000"/>
                <a:ext cx="792000" cy="718920"/>
                <a:chOff x="7552800" y="981000"/>
                <a:chExt cx="792000" cy="71892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7552800" y="981000"/>
                  <a:ext cx="792000" cy="718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7865280" y="1412640"/>
                  <a:ext cx="215640" cy="216000"/>
                </a:xfrm>
                <a:prstGeom prst="noSmoking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" name=""/>
              <p:cNvSpPr/>
              <p:nvPr/>
            </p:nvSpPr>
            <p:spPr>
              <a:xfrm>
                <a:off x="7524720" y="1139760"/>
                <a:ext cx="288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6386400" y="2060640"/>
              <a:ext cx="806400" cy="718920"/>
              <a:chOff x="6386400" y="2060640"/>
              <a:chExt cx="806400" cy="718920"/>
            </a:xfrm>
          </p:grpSpPr>
          <p:grpSp>
            <p:nvGrpSpPr>
              <p:cNvPr id="123" name=""/>
              <p:cNvGrpSpPr/>
              <p:nvPr/>
            </p:nvGrpSpPr>
            <p:grpSpPr>
              <a:xfrm>
                <a:off x="6400800" y="2060640"/>
                <a:ext cx="792000" cy="718920"/>
                <a:chOff x="6400800" y="2060640"/>
                <a:chExt cx="792000" cy="71892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6400800" y="2060640"/>
                  <a:ext cx="792000" cy="718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713280" y="2492280"/>
                  <a:ext cx="215640" cy="216000"/>
                </a:xfrm>
                <a:prstGeom prst="noSmoking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" name=""/>
              <p:cNvSpPr/>
              <p:nvPr/>
            </p:nvSpPr>
            <p:spPr>
              <a:xfrm>
                <a:off x="6386400" y="2204640"/>
                <a:ext cx="289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 flipV="1">
              <a:off x="7940520" y="1699920"/>
              <a:ext cx="0" cy="431640"/>
            </a:xfrm>
            <a:prstGeom prst="line">
              <a:avLst/>
            </a:prstGeom>
            <a:ln w="50760">
              <a:solidFill>
                <a:srgbClr val="178bff"/>
              </a:solidFill>
              <a:miter/>
              <a:headEnd len="sm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121160" y="2421000"/>
              <a:ext cx="432000" cy="0"/>
            </a:xfrm>
            <a:prstGeom prst="line">
              <a:avLst/>
            </a:prstGeom>
            <a:ln w="50760">
              <a:solidFill>
                <a:srgbClr val="178bff"/>
              </a:solidFill>
              <a:miter/>
              <a:headEnd len="sm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 flipV="1">
            <a:off x="5667480" y="3862080"/>
            <a:ext cx="0" cy="431640"/>
          </a:xfrm>
          <a:prstGeom prst="line">
            <a:avLst/>
          </a:prstGeom>
          <a:ln w="50760">
            <a:solidFill>
              <a:srgbClr val="178bff"/>
            </a:solidFill>
            <a:miter/>
            <a:headEnd len="sm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13440" y="3516480"/>
            <a:ext cx="431640" cy="0"/>
          </a:xfrm>
          <a:prstGeom prst="line">
            <a:avLst/>
          </a:prstGeom>
          <a:ln w="50760">
            <a:solidFill>
              <a:srgbClr val="178bff"/>
            </a:solidFill>
            <a:miter/>
            <a:headEnd len="sm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6400800" y="3141720"/>
            <a:ext cx="1987560" cy="1814400"/>
            <a:chOff x="6400800" y="3141720"/>
            <a:chExt cx="1987560" cy="1814400"/>
          </a:xfrm>
        </p:grpSpPr>
        <p:sp>
          <p:nvSpPr>
            <p:cNvPr id="132" name=""/>
            <p:cNvSpPr/>
            <p:nvPr/>
          </p:nvSpPr>
          <p:spPr>
            <a:xfrm>
              <a:off x="7596000" y="3141720"/>
              <a:ext cx="792360" cy="718920"/>
            </a:xfrm>
            <a:prstGeom prst="cube">
              <a:avLst>
                <a:gd name="adj" fmla="val 25000"/>
              </a:avLst>
            </a:prstGeom>
            <a:solidFill>
              <a:srgbClr val="d7ff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812000" y="350028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783200" y="3630600"/>
              <a:ext cx="28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667640" y="376092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51720" y="3286080"/>
              <a:ext cx="28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445080" y="4237200"/>
              <a:ext cx="792000" cy="718920"/>
            </a:xfrm>
            <a:prstGeom prst="cube">
              <a:avLst>
                <a:gd name="adj" fmla="val 25000"/>
              </a:avLst>
            </a:prstGeom>
            <a:solidFill>
              <a:srgbClr val="d7ff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659280" y="4581360"/>
              <a:ext cx="216000" cy="216000"/>
            </a:xfrm>
            <a:prstGeom prst="lightningBol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00800" y="4381560"/>
              <a:ext cx="28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7565760" y="4222800"/>
              <a:ext cx="822240" cy="718920"/>
              <a:chOff x="7565760" y="4222800"/>
              <a:chExt cx="822240" cy="718920"/>
            </a:xfrm>
          </p:grpSpPr>
          <p:sp>
            <p:nvSpPr>
              <p:cNvPr id="141" name=""/>
              <p:cNvSpPr/>
              <p:nvPr/>
            </p:nvSpPr>
            <p:spPr>
              <a:xfrm>
                <a:off x="7595640" y="4222800"/>
                <a:ext cx="792360" cy="718920"/>
              </a:xfrm>
              <a:prstGeom prst="cube">
                <a:avLst>
                  <a:gd name="adj" fmla="val 25000"/>
                </a:avLst>
              </a:prstGeom>
              <a:solidFill>
                <a:srgbClr val="d7ff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EF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565760" y="4352760"/>
                <a:ext cx="288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 flipV="1">
              <a:off x="7984800" y="3846240"/>
              <a:ext cx="0" cy="431640"/>
            </a:xfrm>
            <a:prstGeom prst="line">
              <a:avLst/>
            </a:prstGeom>
            <a:ln w="50760">
              <a:solidFill>
                <a:srgbClr val="178bff"/>
              </a:solidFill>
              <a:miter/>
              <a:headEnd len="sm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164360" y="4610160"/>
              <a:ext cx="431640" cy="0"/>
            </a:xfrm>
            <a:prstGeom prst="line">
              <a:avLst/>
            </a:prstGeom>
            <a:ln w="50760">
              <a:solidFill>
                <a:srgbClr val="178bff"/>
              </a:solidFill>
              <a:miter/>
              <a:headEnd len="sm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826920" y="5805360"/>
            <a:ext cx="813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- управлять параметра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- создавать визуальные представления – создавать рабочие мес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3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4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4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4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5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500"/>
                            </p:stCondLst>
                            <p:childTnLst>
                              <p:par>
                                <p:cTn id="1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3" presetSubtype="3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27" nodeType="afterEffect" fill="hold" presetClass="entr" presetID="23" presetSubtype="3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2"/>
            </a:gs>
            <a:gs pos="100000">
              <a:srgbClr val="000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4360" y="45576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обенности технологии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NTI™ BOBy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9640" y="1196640"/>
            <a:ext cx="8136000" cy="4971960"/>
          </a:xfrm>
          <a:prstGeom prst="rect">
            <a:avLst/>
          </a:prstGeom>
          <a:solidFill>
            <a:srgbClr val="b3d9ff"/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ше решение содержит «ноу-хау», которое позволяет вносить изменения в структуру  информационных потоков без корректировки структуры базы данных и программного кода. При это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36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ьзователь за несколько кликов мышью создает  новую информационную категори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36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является возможность экономить значительные человеческие, временные и финансовые ресурсы при изменении регламента бизнес процес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здана самонастраиваемая систе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a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a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a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32"/>
            </a:gs>
            <a:gs pos="100000">
              <a:srgbClr val="000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762120" y="1595160"/>
            <a:ext cx="7772400" cy="4886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760320" y="1036800"/>
            <a:ext cx="7772400" cy="37296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cc">
                  <a:alpha val="90196"/>
                </a:srgbClr>
              </a:gs>
              <a:gs pos="100000">
                <a:srgbClr val="ffff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46"/>
                </a:solidFill>
                <a:latin typeface="Lucida Sans Unicode"/>
              </a:rPr>
              <a:t>База данных / База зн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197080" y="1790640"/>
            <a:ext cx="1295280" cy="1600200"/>
            <a:chOff x="2197080" y="1790640"/>
            <a:chExt cx="1295280" cy="1600200"/>
          </a:xfrm>
        </p:grpSpPr>
        <p:sp>
          <p:nvSpPr>
            <p:cNvPr id="151" name=""/>
            <p:cNvSpPr/>
            <p:nvPr/>
          </p:nvSpPr>
          <p:spPr>
            <a:xfrm>
              <a:off x="2197080" y="1790640"/>
              <a:ext cx="1295280" cy="1295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3ff4b"/>
                  </a:solidFill>
                  <a:latin typeface="Arial"/>
                </a:rPr>
                <a:t>Баз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3ff4b"/>
                  </a:solidFill>
                  <a:latin typeface="Arial"/>
                </a:rPr>
                <a:t>данны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197080" y="2705040"/>
              <a:ext cx="1295280" cy="68580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4114800" y="1790640"/>
            <a:ext cx="1295280" cy="1600200"/>
            <a:chOff x="4114800" y="1790640"/>
            <a:chExt cx="1295280" cy="1600200"/>
          </a:xfrm>
        </p:grpSpPr>
        <p:sp>
          <p:nvSpPr>
            <p:cNvPr id="154" name=""/>
            <p:cNvSpPr/>
            <p:nvPr/>
          </p:nvSpPr>
          <p:spPr>
            <a:xfrm>
              <a:off x="4114800" y="1790640"/>
              <a:ext cx="1295280" cy="1295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3ff4b"/>
                  </a:solidFill>
                  <a:latin typeface="Arial"/>
                </a:rPr>
                <a:t>Систем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3ff4b"/>
                  </a:solidFill>
                  <a:latin typeface="Arial"/>
                </a:rPr>
                <a:t>словаре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114800" y="2705040"/>
              <a:ext cx="1295280" cy="68580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3492360" y="2421000"/>
            <a:ext cx="622440" cy="216000"/>
          </a:xfrm>
          <a:prstGeom prst="leftRightArrow">
            <a:avLst>
              <a:gd name="adj1" fmla="val 50000"/>
              <a:gd name="adj2" fmla="val 57366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95640" y="4076640"/>
            <a:ext cx="2985840" cy="7495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3ff4b"/>
                </a:solidFill>
                <a:latin typeface="Arial"/>
              </a:rPr>
              <a:t>Поисковая систем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410080" y="2408400"/>
            <a:ext cx="609840" cy="228600"/>
          </a:xfrm>
          <a:prstGeom prst="leftRightArrow">
            <a:avLst>
              <a:gd name="adj1" fmla="val 50000"/>
              <a:gd name="adj2" fmla="val 5310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181480" y="4352760"/>
            <a:ext cx="838440" cy="228600"/>
          </a:xfrm>
          <a:prstGeom prst="leftRightArrow">
            <a:avLst>
              <a:gd name="adj1" fmla="val 50000"/>
              <a:gd name="adj2" fmla="val 73014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33720" y="5600880"/>
            <a:ext cx="5257800" cy="6858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3ff4b"/>
                </a:solidFill>
                <a:latin typeface="Arial"/>
              </a:rPr>
              <a:t>Клиентская часть / пользовател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276720" y="4826160"/>
            <a:ext cx="3504960" cy="774720"/>
            <a:chOff x="3276720" y="4826160"/>
            <a:chExt cx="3504960" cy="774720"/>
          </a:xfrm>
        </p:grpSpPr>
        <p:sp>
          <p:nvSpPr>
            <p:cNvPr id="162" name=""/>
            <p:cNvSpPr/>
            <p:nvPr/>
          </p:nvSpPr>
          <p:spPr>
            <a:xfrm>
              <a:off x="3276720" y="4826160"/>
              <a:ext cx="228600" cy="763560"/>
            </a:xfrm>
            <a:prstGeom prst="upDownArrow">
              <a:avLst>
                <a:gd name="adj1" fmla="val 50000"/>
                <a:gd name="adj2" fmla="val 66494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553080" y="4838760"/>
              <a:ext cx="228600" cy="762120"/>
            </a:xfrm>
            <a:prstGeom prst="upDownArrow">
              <a:avLst>
                <a:gd name="adj1" fmla="val 50000"/>
                <a:gd name="adj2" fmla="val 66368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052720" y="4951440"/>
            <a:ext cx="40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запросы              рекоменд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6012000" y="1790640"/>
            <a:ext cx="1371600" cy="3048120"/>
            <a:chOff x="6012000" y="1790640"/>
            <a:chExt cx="1371600" cy="3048120"/>
          </a:xfrm>
        </p:grpSpPr>
        <p:sp>
          <p:nvSpPr>
            <p:cNvPr id="166" name=""/>
            <p:cNvSpPr/>
            <p:nvPr/>
          </p:nvSpPr>
          <p:spPr>
            <a:xfrm>
              <a:off x="6012000" y="1790640"/>
              <a:ext cx="1371600" cy="304812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16200000">
              <a:off x="6337080" y="2660760"/>
              <a:ext cx="729000" cy="12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3ff4b"/>
                  </a:solidFill>
                  <a:latin typeface="Arial"/>
                </a:rPr>
                <a:t>Целевые функц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826920" y="160200"/>
            <a:ext cx="7705800" cy="7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cc"/>
                </a:solidFill>
                <a:latin typeface="Arial"/>
              </a:rPr>
              <a:t>RINTI™ S2C</a:t>
            </a:r>
            <a:r>
              <a:rPr b="0" lang="en-US" sz="2400" spc="-1" strike="noStrike" baseline="30000">
                <a:solidFill>
                  <a:srgbClr val="99ffcc"/>
                </a:solidFill>
                <a:latin typeface="Arial"/>
              </a:rPr>
              <a:t>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ология построения программного обеспе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2"/>
            </a:gs>
            <a:gs pos="100000">
              <a:srgbClr val="000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519120" y="213336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ff99"/>
                </a:solidFill>
                <a:latin typeface="Arial"/>
              </a:rPr>
              <a:t>На основании системы параметров, правил и услов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4600">
              <a:spcBef>
                <a:spcPts val="601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ff99"/>
                </a:solidFill>
                <a:latin typeface="Arial"/>
              </a:rPr>
              <a:t>автоматически формируется рабочее место продаж полного цикл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4600">
              <a:spcBef>
                <a:spcPts val="601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ff99"/>
                </a:solidFill>
                <a:latin typeface="Arial"/>
              </a:rPr>
              <a:t>по запросу менеджера или клиента программа производит расчет стоимости услуги или комплекса услуг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4600">
              <a:spcBef>
                <a:spcPts val="601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ff99"/>
                </a:solidFill>
                <a:latin typeface="Arial"/>
              </a:rPr>
              <a:t>формируются и распечатываются все необходимые докумен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348000" y="504720"/>
            <a:ext cx="2519280" cy="1312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 Unicode"/>
              </a:rPr>
              <a:t>SalesLine</a:t>
            </a:r>
            <a:r>
              <a:rPr b="0" lang="en-US" sz="3600" spc="-1" strike="noStrike">
                <a:solidFill>
                  <a:srgbClr val="ffffff"/>
                </a:solidFill>
                <a:latin typeface="Lucida Sans Unicode"/>
              </a:rPr>
              <a:t>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2"/>
            </a:gs>
            <a:gs pos="100000">
              <a:srgbClr val="000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19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ffcc"/>
                </a:solidFill>
                <a:latin typeface="Arial"/>
              </a:rPr>
              <a:t>Рабочее место </a:t>
            </a:r>
            <a:r>
              <a:rPr b="0" lang="en-US" sz="2400" spc="-1" strike="noStrike">
                <a:solidFill>
                  <a:srgbClr val="99ffcc"/>
                </a:solidFill>
                <a:latin typeface="Arial"/>
              </a:rPr>
              <a:t>SalesLine</a:t>
            </a:r>
            <a:r>
              <a:rPr b="0" lang="en-US" sz="2400" spc="-1" strike="noStrike" baseline="30000">
                <a:solidFill>
                  <a:srgbClr val="99ffcc"/>
                </a:solidFill>
                <a:latin typeface="Arial"/>
              </a:rPr>
              <a:t>®</a:t>
            </a:r>
            <a:r>
              <a:rPr b="0" lang="en-US" sz="2400" spc="-1" strike="noStrike">
                <a:solidFill>
                  <a:srgbClr val="99ffcc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99ffcc"/>
                </a:solidFill>
                <a:latin typeface="Arial"/>
              </a:rPr>
              <a:t>автоматически создается на основании параметров, внесенных в </a:t>
            </a:r>
            <a:r>
              <a:rPr b="0" lang="en-US" sz="2400" spc="-1" strike="noStrike">
                <a:solidFill>
                  <a:srgbClr val="99ffcc"/>
                </a:solidFill>
                <a:latin typeface="Arial"/>
              </a:rPr>
              <a:t>Back Off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826920" y="1557360"/>
          <a:ext cx="7561440" cy="494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557360"/>
                    <a:ext cx="7561440" cy="494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4T09:20:23Z</dcterms:created>
  <dc:creator>Alexey Kolesnikov</dc:creator>
  <dc:description/>
  <dc:language>en-US</dc:language>
  <cp:lastModifiedBy>AKOLESNIKOV2000</cp:lastModifiedBy>
  <dcterms:modified xsi:type="dcterms:W3CDTF">2002-11-26T08:23:48Z</dcterms:modified>
  <cp:revision>301</cp:revision>
  <dc:subject/>
  <dc:title>Слайд 1</dc:title>
</cp:coreProperties>
</file>