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8D18-2512-465F-95DF-273695432C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мментарий голосом: В данном случае представлен (выбран) модуль договоры и нажата кнопка список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мментарий голосом: Выбран модуль договоры, нажата кнопка информация по объек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мментарий голосом: Выбран модуль договоры, нажата кнопка сводная информация возникли поля дополнитель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F4D-A0AA-406A-B93A-293038B0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2C9-11C3-46B7-ABFA-55C6DBAF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600-065A-4B80-9061-C1F59454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84C-CE19-4711-B73F-003C4F3A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6D9-7599-4ECA-B7E6-557A0A38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DF8-03F1-42EE-A61C-E8E17F8B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CF6-1DDC-4840-A524-88B82918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F6B-82C0-4711-B1C9-D851CDA0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D9B-968C-4662-BABB-2853C3B7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E0D-1BB4-4B44-B163-25CAA14F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341-BC9B-4BA7-AAA8-FA056558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96C-FAF2-4A73-B9C7-26931276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2D56-6E91-4EA4-A189-C28BC389A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ff07"/>
                </a:solidFill>
                <a:latin typeface="Monotype Corsiva"/>
              </a:rPr>
              <a:t>РИНТИ </a:t>
            </a:r>
            <a:r>
              <a:rPr b="1" lang="en-US" sz="3200" spc="-1" strike="noStrike" baseline="30000">
                <a:solidFill>
                  <a:srgbClr val="07ff07"/>
                </a:solidFill>
                <a:latin typeface="Monotype Corsiva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76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Технологию формирования систем автоматизации управления бизне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1080" y="1052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99"/>
                </a:solidFill>
                <a:latin typeface="Arial"/>
              </a:rPr>
              <a:t>пред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901960" y="4335480"/>
            <a:ext cx="3600000" cy="950400"/>
            <a:chOff x="2901960" y="4335480"/>
            <a:chExt cx="3600000" cy="950400"/>
          </a:xfrm>
        </p:grpSpPr>
        <p:sp>
          <p:nvSpPr>
            <p:cNvPr id="52" name=""/>
            <p:cNvSpPr/>
            <p:nvPr/>
          </p:nvSpPr>
          <p:spPr>
            <a:xfrm>
              <a:off x="2917800" y="4349520"/>
              <a:ext cx="3584160" cy="9363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01960" y="4335480"/>
              <a:ext cx="3584160" cy="93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732720" y="587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Franklin Gothic Medium"/>
              </a:rPr>
              <a:t>Живой биз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7800" y="455940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BOBi</a:t>
            </a: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2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2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70040" y="1484280"/>
            <a:ext cx="770400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На основании правил, тарифов и информации пользователя формируются итоговые док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348000" y="504720"/>
            <a:ext cx="251928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SalesLine</a:t>
            </a: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2565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alesLine</a:t>
            </a:r>
            <a:r>
              <a:rPr b="1" lang="en-US" sz="3200" spc="-1" strike="noStrike" baseline="30000">
                <a:solidFill>
                  <a:srgbClr val="00ff00"/>
                </a:solidFill>
                <a:latin typeface="Arial"/>
              </a:rPr>
              <a:t>®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то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автоматизированное рабочее место продавца услуг, которое может быть установлено в любой точке, где есть компьютер и связ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786040" y="1989000"/>
            <a:ext cx="367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d2fe"/>
              </a:gs>
              <a:gs pos="100000">
                <a:srgbClr val="b3ba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mierLin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89240" y="4551480"/>
            <a:ext cx="28796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b3d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ales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75200" y="4551480"/>
            <a:ext cx="28796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b3d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emier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ack Off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42560" y="2982960"/>
            <a:ext cx="3566160" cy="1569960"/>
            <a:chOff x="2842560" y="2982960"/>
            <a:chExt cx="3566160" cy="1569960"/>
          </a:xfrm>
        </p:grpSpPr>
        <p:cxnSp>
          <p:nvCxnSpPr>
            <p:cNvPr id="182" name=""/>
            <p:cNvCxnSpPr/>
            <p:nvPr/>
          </p:nvCxnSpPr>
          <p:spPr>
            <a:xfrm>
              <a:off x="4636800" y="2982960"/>
              <a:ext cx="1080" cy="720000"/>
            </a:xfrm>
            <a:prstGeom prst="straightConnector1">
              <a:avLst/>
            </a:prstGeom>
            <a:ln w="31680">
              <a:solidFill>
                <a:srgbClr val="cc99ff"/>
              </a:solidFill>
              <a:miter/>
              <a:headEnd len="sm" type="diamond" w="lg"/>
              <a:tailEnd len="sm" type="diamond" w="lg"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2842560" y="3702600"/>
              <a:ext cx="3566160" cy="850320"/>
              <a:chOff x="2842560" y="3702600"/>
              <a:chExt cx="3566160" cy="850320"/>
            </a:xfrm>
          </p:grpSpPr>
          <p:cxnSp>
            <p:nvCxnSpPr>
              <p:cNvPr id="184" name=""/>
              <p:cNvCxnSpPr>
                <a:endCxn id="180" idx="0"/>
              </p:cNvCxnSpPr>
              <p:nvPr/>
            </p:nvCxnSpPr>
            <p:spPr>
              <a:xfrm>
                <a:off x="4606560" y="3703320"/>
                <a:ext cx="1802520" cy="849960"/>
              </a:xfrm>
              <a:prstGeom prst="bentConnector2">
                <a:avLst/>
              </a:prstGeom>
              <a:ln w="31680">
                <a:solidFill>
                  <a:srgbClr val="cc99ff"/>
                </a:solidFill>
                <a:miter/>
                <a:tailEnd len="lg" type="stealth" w="lg"/>
              </a:ln>
            </p:spPr>
          </p:cxnSp>
          <p:cxnSp>
            <p:nvCxnSpPr>
              <p:cNvPr id="185" name=""/>
              <p:cNvCxnSpPr>
                <a:endCxn id="179" idx="0"/>
              </p:cNvCxnSpPr>
              <p:nvPr/>
            </p:nvCxnSpPr>
            <p:spPr>
              <a:xfrm flipV="1" rot="10800000">
                <a:off x="2842560" y="3702600"/>
                <a:ext cx="1764360" cy="849960"/>
              </a:xfrm>
              <a:prstGeom prst="bentConnector2">
                <a:avLst/>
              </a:prstGeom>
              <a:ln w="31680">
                <a:solidFill>
                  <a:srgbClr val="cc99ff"/>
                </a:solidFill>
                <a:miter/>
                <a:tailEnd len="lg" type="stealth" w="lg"/>
              </a:ln>
            </p:spPr>
          </p:cxn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7200" y="74448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RINTI™ PremierLine</a:t>
            </a:r>
            <a:r>
              <a:rPr b="1" lang="en-US" sz="2800" spc="-1" strike="noStrike" baseline="30000">
                <a:solidFill>
                  <a:srgbClr val="99ffcc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7" presetSubtype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08240" y="1197000"/>
            <a:ext cx="3670200" cy="1584360"/>
          </a:xfrm>
          <a:prstGeom prst="line">
            <a:avLst/>
          </a:prstGeom>
          <a:ln w="38160">
            <a:solidFill>
              <a:srgbClr val="ff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65400" y="2492280"/>
            <a:ext cx="3706920" cy="865440"/>
          </a:xfrm>
          <a:prstGeom prst="line">
            <a:avLst/>
          </a:prstGeom>
          <a:ln w="38160">
            <a:solidFill>
              <a:srgbClr val="ff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22560" y="3933720"/>
            <a:ext cx="3744720" cy="216000"/>
          </a:xfrm>
          <a:prstGeom prst="line">
            <a:avLst/>
          </a:prstGeom>
          <a:ln w="38160">
            <a:solidFill>
              <a:srgbClr val="ff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022480" y="4408200"/>
            <a:ext cx="3851280" cy="1297080"/>
          </a:xfrm>
          <a:prstGeom prst="line">
            <a:avLst/>
          </a:prstGeom>
          <a:ln w="38160">
            <a:solidFill>
              <a:srgbClr val="ff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mputr4"/>
          <p:cNvSpPr/>
          <p:nvPr/>
        </p:nvSpPr>
        <p:spPr>
          <a:xfrm>
            <a:off x="5869080" y="2276640"/>
            <a:ext cx="2590560" cy="280800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100000">
                <a:srgbClr val="cc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57240" y="333360"/>
            <a:ext cx="2592360" cy="1297080"/>
            <a:chOff x="957240" y="333360"/>
            <a:chExt cx="2592360" cy="12970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957240" y="333360"/>
              <a:ext cx="1254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181240" y="51120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Продаж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971640" y="1790640"/>
            <a:ext cx="2808360" cy="1349280"/>
            <a:chOff x="971640" y="1790640"/>
            <a:chExt cx="2808360" cy="134928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971640" y="1916280"/>
              <a:ext cx="1204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195640" y="1790640"/>
              <a:ext cx="15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bb"/>
                  </a:solidFill>
                  <a:latin typeface="Arial"/>
                </a:rPr>
                <a:t>Отчеты филиал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898560" y="3429000"/>
            <a:ext cx="3168720" cy="1297080"/>
            <a:chOff x="898560" y="3429000"/>
            <a:chExt cx="3168720" cy="1297080"/>
          </a:xfrm>
        </p:grpSpPr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898560" y="3429000"/>
              <a:ext cx="127008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95640" y="3716280"/>
              <a:ext cx="18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ab"/>
                  </a:solidFill>
                  <a:latin typeface="Arial"/>
                </a:rPr>
                <a:t>Финансовые докумен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92080" y="4940280"/>
            <a:ext cx="2887560" cy="1368360"/>
            <a:chOff x="892080" y="4940280"/>
            <a:chExt cx="2887560" cy="1368360"/>
          </a:xfrm>
        </p:grpSpPr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892080" y="4940280"/>
              <a:ext cx="132228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195280" y="576900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d"/>
                  </a:solidFill>
                  <a:latin typeface="Arial"/>
                </a:rPr>
                <a:t>Call-</a:t>
              </a:r>
              <a:r>
                <a:rPr b="1" lang="ru-RU" sz="2000" spc="-1" strike="noStrike">
                  <a:solidFill>
                    <a:srgbClr val="ffff9d"/>
                  </a:solidFill>
                  <a:latin typeface="Arial"/>
                </a:rPr>
                <a:t>цент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4" name=""/>
          <p:cNvCxnSpPr>
            <a:stCxn id="205" idx="2"/>
            <a:endCxn id="191" idx="4"/>
          </p:cNvCxnSpPr>
          <p:nvPr/>
        </p:nvCxnSpPr>
        <p:spPr>
          <a:xfrm>
            <a:off x="7162920" y="1440000"/>
            <a:ext cx="2160" cy="8373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headEnd len="sm" type="arrow" w="lg"/>
            <a:tailEnd len="sm" type="arrow" w="lg"/>
          </a:ln>
        </p:spPr>
      </p:cxnSp>
      <p:grpSp>
        <p:nvGrpSpPr>
          <p:cNvPr id="206" name=""/>
          <p:cNvGrpSpPr/>
          <p:nvPr/>
        </p:nvGrpSpPr>
        <p:grpSpPr>
          <a:xfrm>
            <a:off x="5219640" y="620640"/>
            <a:ext cx="2419560" cy="819000"/>
            <a:chOff x="5219640" y="620640"/>
            <a:chExt cx="2419560" cy="819000"/>
          </a:xfrm>
        </p:grpSpPr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6686640" y="620640"/>
              <a:ext cx="95256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19640" y="691920"/>
              <a:ext cx="136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b7ffb7"/>
                  </a:solidFill>
                  <a:latin typeface="Arial"/>
                </a:rPr>
                <a:t>Учетныесисте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292720" y="5850000"/>
            <a:ext cx="2418840" cy="819000"/>
            <a:chOff x="5292720" y="5850000"/>
            <a:chExt cx="2418840" cy="819000"/>
          </a:xfrm>
        </p:grpSpPr>
        <p:pic>
          <p:nvPicPr>
            <p:cNvPr id="210" name="" descr=""/>
            <p:cNvPicPr/>
            <p:nvPr/>
          </p:nvPicPr>
          <p:blipFill>
            <a:blip r:embed="rId6"/>
            <a:stretch/>
          </p:blipFill>
          <p:spPr>
            <a:xfrm>
              <a:off x="6759360" y="5850000"/>
              <a:ext cx="95220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292720" y="5921280"/>
              <a:ext cx="136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ffb7"/>
                  </a:solidFill>
                  <a:latin typeface="Arial"/>
                </a:rPr>
                <a:t>Внешние систе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2" name=""/>
          <p:cNvCxnSpPr/>
          <p:nvPr/>
        </p:nvCxnSpPr>
        <p:spPr>
          <a:xfrm>
            <a:off x="7164360" y="5113440"/>
            <a:ext cx="2160" cy="8373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headEnd len="sm" type="arrow" w="lg"/>
            <a:tailEnd len="sm" type="arrow" w="lg"/>
          </a:ln>
        </p:spPr>
      </p:cxnSp>
    </p:spTree>
  </p:cSld>
  <p:transition>
    <p:zoom dir="ou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7200" y="384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Особенности наследова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0320" y="1101600"/>
            <a:ext cx="7772400" cy="5158080"/>
          </a:xfrm>
          <a:prstGeom prst="rect">
            <a:avLst/>
          </a:prstGeom>
          <a:blipFill rotWithShape="0">
            <a:blip r:embed="rId1"/>
            <a:stretch/>
          </a:blip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6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построения программных библиотек содержит «ноу-хау», которое дает возможность использовать уже существующие базы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а технология разработки программных библиотек позволяет интегрироваться с различными системами управления б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экономятся средства за счет использования ранее установленных систем и  сокращения сроков внед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а возм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ть накопленные зн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5920" y="764640"/>
            <a:ext cx="6778440" cy="652680"/>
          </a:xfrm>
          <a:prstGeom prst="rect">
            <a:avLst/>
          </a:prstGeom>
          <a:solidFill>
            <a:srgbClr val="ffffcc"/>
          </a:solidFill>
          <a:ln w="25560">
            <a:solidFill>
              <a:srgbClr val="4d4d4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можности построения К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3530880"/>
            <a:ext cx="4105080" cy="398880"/>
          </a:xfrm>
          <a:prstGeom prst="flowChart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базе технолог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4488120"/>
            <a:ext cx="4105080" cy="1313640"/>
          </a:xfrm>
          <a:prstGeom prst="flowChart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ыковка решений на основ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ажи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RM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) с существующими системам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380360" y="1844640"/>
            <a:ext cx="1295280" cy="1214640"/>
          </a:xfrm>
          <a:prstGeom prst="rect">
            <a:avLst/>
          </a:prstGeom>
          <a:ln w="0">
            <a:noFill/>
          </a:ln>
        </p:spPr>
      </p:pic>
      <p:cxnSp>
        <p:nvCxnSpPr>
          <p:cNvPr id="219" name=""/>
          <p:cNvCxnSpPr>
            <a:stCxn id="215" idx="2"/>
            <a:endCxn id="216" idx="0"/>
          </p:cNvCxnSpPr>
          <p:nvPr/>
        </p:nvCxnSpPr>
        <p:spPr>
          <a:xfrm flipH="1">
            <a:off x="2663280" y="1429920"/>
            <a:ext cx="1472040" cy="20973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headEnd len="sm" type="diamond" w="sm"/>
            <a:tailEnd len="lg" type="stealth" w="lg"/>
          </a:ln>
        </p:spPr>
      </p:cxnSp>
      <p:cxnSp>
        <p:nvCxnSpPr>
          <p:cNvPr id="220" name=""/>
          <p:cNvCxnSpPr>
            <a:stCxn id="215" idx="2"/>
            <a:endCxn id="217" idx="0"/>
          </p:cNvCxnSpPr>
          <p:nvPr/>
        </p:nvCxnSpPr>
        <p:spPr>
          <a:xfrm>
            <a:off x="4134960" y="1430280"/>
            <a:ext cx="2345040" cy="30549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headEnd len="sm" type="diamond" w="sm"/>
            <a:tailEnd len="lg" type="stealth" w="lg"/>
          </a:ln>
        </p:spPr>
      </p:cxnSp>
    </p:spTree>
  </p:cSld>
  <p:transition>
    <p:blinds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ffb7"/>
                </a:solidFill>
                <a:latin typeface="Arial"/>
              </a:rPr>
              <a:t>Развиваем бизнес – развивается система управления бизне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2133720"/>
            <a:ext cx="2663640" cy="936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TI™ BOB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5229360"/>
            <a:ext cx="2663640" cy="13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9280" indent="8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8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8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8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56360" y="3571920"/>
            <a:ext cx="2592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571920"/>
            <a:ext cx="2592360" cy="93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т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5" idx="0"/>
            <a:endCxn id="222" idx="1"/>
          </p:cNvCxnSpPr>
          <p:nvPr/>
        </p:nvCxnSpPr>
        <p:spPr>
          <a:xfrm flipV="1">
            <a:off x="1765440" y="2601720"/>
            <a:ext cx="1512000" cy="970560"/>
          </a:xfrm>
          <a:prstGeom prst="straightConnector1">
            <a:avLst/>
          </a:prstGeom>
          <a:ln w="38160">
            <a:solidFill>
              <a:srgbClr val="ec00ec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227" name=""/>
          <p:cNvCxnSpPr>
            <a:stCxn id="222" idx="3"/>
            <a:endCxn id="224" idx="0"/>
          </p:cNvCxnSpPr>
          <p:nvPr/>
        </p:nvCxnSpPr>
        <p:spPr>
          <a:xfrm>
            <a:off x="5940000" y="2602080"/>
            <a:ext cx="1513800" cy="970560"/>
          </a:xfrm>
          <a:prstGeom prst="straightConnector1">
            <a:avLst/>
          </a:prstGeom>
          <a:ln w="38160">
            <a:solidFill>
              <a:srgbClr val="ec00ec"/>
            </a:solidFill>
            <a:miter/>
            <a:headEnd len="lg" type="stealth" w="lg"/>
            <a:tailEnd len="lg" type="stealth" w="lg"/>
          </a:ln>
        </p:spPr>
      </p:cxnSp>
      <p:sp>
        <p:nvSpPr>
          <p:cNvPr id="228" name=""/>
          <p:cNvSpPr/>
          <p:nvPr/>
        </p:nvSpPr>
        <p:spPr>
          <a:xfrm>
            <a:off x="4441680" y="3070080"/>
            <a:ext cx="360360" cy="2159280"/>
          </a:xfrm>
          <a:prstGeom prst="downArrow">
            <a:avLst>
              <a:gd name="adj1" fmla="val 50000"/>
              <a:gd name="adj2" fmla="val 149800"/>
            </a:avLst>
          </a:prstGeom>
          <a:gradFill rotWithShape="0">
            <a:gsLst>
              <a:gs pos="0">
                <a:srgbClr val="ffcc99"/>
              </a:gs>
              <a:gs pos="100000">
                <a:srgbClr val="ffe4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ff4b"/>
                </a:solidFill>
                <a:latin typeface="Arial"/>
              </a:rPr>
              <a:t>Система </a:t>
            </a:r>
            <a:r>
              <a:rPr b="1" lang="en-US" sz="3200" spc="-1" strike="noStrike">
                <a:solidFill>
                  <a:srgbClr val="5fff85"/>
                </a:solidFill>
                <a:latin typeface="Arial"/>
              </a:rPr>
              <a:t>PremierLine</a:t>
            </a:r>
            <a:r>
              <a:rPr b="1" lang="en-US" sz="3200" spc="-1" strike="noStrike" baseline="30000">
                <a:solidFill>
                  <a:srgbClr val="5fff85"/>
                </a:solidFill>
                <a:latin typeface="Arial"/>
              </a:rPr>
              <a:t>®</a:t>
            </a:r>
            <a:r>
              <a:rPr b="1" lang="ru-RU" sz="3200" spc="-1" strike="noStrike">
                <a:solidFill>
                  <a:srgbClr val="5fff85"/>
                </a:solidFill>
                <a:latin typeface="Arial"/>
              </a:rPr>
              <a:t> 2</a:t>
            </a:r>
            <a:r>
              <a:rPr b="1" lang="ru-RU" sz="3200" spc="-1" strike="noStrike">
                <a:solidFill>
                  <a:srgbClr val="13ff4b"/>
                </a:solidFill>
                <a:latin typeface="Arial"/>
              </a:rPr>
              <a:t> предназначена для автоматизации управления продажами и формирования базы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 algn="just">
              <a:lnSpc>
                <a:spcPct val="90000"/>
              </a:lnSpc>
              <a:spcBef>
                <a:spcPts val="700"/>
              </a:spcBef>
              <a:buClr>
                <a:srgbClr val="13ff4b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ff4b"/>
                </a:solidFill>
                <a:latin typeface="Arial"/>
              </a:rPr>
              <a:t>Управление параметрами продаж ведется с любого уда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90000"/>
              </a:lnSpc>
              <a:spcBef>
                <a:spcPts val="700"/>
              </a:spcBef>
              <a:buClr>
                <a:srgbClr val="13ff4b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ff4b"/>
                </a:solidFill>
                <a:latin typeface="Arial"/>
              </a:rPr>
              <a:t>Программа в автоматическом режиме передает информацию по адресам и другим модулям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90000"/>
              </a:lnSpc>
              <a:spcBef>
                <a:spcPts val="700"/>
              </a:spcBef>
              <a:buClr>
                <a:srgbClr val="13ff4b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ff4b"/>
                </a:solidFill>
                <a:latin typeface="Arial"/>
              </a:rPr>
              <a:t>Модуль служит</a:t>
            </a:r>
            <a:r>
              <a:rPr b="1" lang="en-US" sz="2800" spc="-1" strike="noStrike">
                <a:solidFill>
                  <a:srgbClr val="13ff4b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3ff4b"/>
                </a:solidFill>
                <a:latin typeface="Arial"/>
              </a:rPr>
              <a:t>одним из инструментов формирования базы знаний о кли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90000"/>
              </a:lnSpc>
              <a:spcBef>
                <a:spcPts val="700"/>
              </a:spcBef>
              <a:buClr>
                <a:srgbClr val="13ff4b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ff4b"/>
                </a:solidFill>
                <a:latin typeface="Arial"/>
              </a:rPr>
              <a:t>Является частью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504720"/>
            <a:ext cx="251928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SalesLine</a:t>
            </a: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419640" y="504720"/>
            <a:ext cx="237636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Sales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60800" y="303120"/>
            <a:ext cx="2879640" cy="103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d3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ales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74840" y="2708280"/>
            <a:ext cx="288000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b6da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emier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ack Off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1773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cc"/>
                </a:solidFill>
                <a:latin typeface="Arial"/>
              </a:rPr>
              <a:t>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162864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cc"/>
                </a:solidFill>
                <a:latin typeface="Arial"/>
              </a:rPr>
              <a:t>Правила и условия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3060360" y="1859040"/>
            <a:ext cx="1366920" cy="360360"/>
          </a:xfrm>
          <a:custGeom>
            <a:avLst/>
            <a:gdLst>
              <a:gd name="textAreaLeft" fmla="*/ 213480 w 1366920"/>
              <a:gd name="textAreaRight" fmla="*/ 1196280 w 1366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4788000" y="1830240"/>
            <a:ext cx="1366560" cy="360360"/>
          </a:xfrm>
          <a:custGeom>
            <a:avLst/>
            <a:gdLst>
              <a:gd name="textAreaLeft" fmla="*/ 213480 w 1366560"/>
              <a:gd name="textAreaRight" fmla="*/ 1195920 w 1366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42940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PremierLine</a:t>
            </a:r>
            <a:r>
              <a:rPr b="0" lang="en-US" sz="2000" spc="-1" strike="noStrike" baseline="30000">
                <a:solidFill>
                  <a:srgbClr val="5fff85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 BackOffice </a:t>
            </a:r>
            <a:r>
              <a:rPr b="0" lang="ru-RU" sz="2000" spc="-1" strike="noStrike">
                <a:solidFill>
                  <a:srgbClr val="5fff85"/>
                </a:solidFill>
                <a:latin typeface="Arial"/>
              </a:rPr>
              <a:t>предоставляет в </a:t>
            </a: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SalesLine</a:t>
            </a:r>
            <a:r>
              <a:rPr b="0" lang="en-US" sz="2000" spc="-1" strike="noStrike" baseline="30000">
                <a:solidFill>
                  <a:srgbClr val="5fff85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fff85"/>
                </a:solidFill>
                <a:latin typeface="Arial"/>
              </a:rPr>
              <a:t>информацию о правилах и условиях поставки и позволяет учитывать персональные особенности клиентов и аг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5535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SalesLine</a:t>
            </a:r>
            <a:r>
              <a:rPr b="0" lang="en-US" sz="2000" spc="-1" strike="noStrike" baseline="30000">
                <a:solidFill>
                  <a:srgbClr val="5fff85"/>
                </a:solidFill>
                <a:latin typeface="Arial"/>
              </a:rPr>
              <a:t>®</a:t>
            </a:r>
            <a:r>
              <a:rPr b="0" lang="ru-RU" sz="2000" spc="-1" strike="noStrike">
                <a:solidFill>
                  <a:srgbClr val="5fff85"/>
                </a:solidFill>
                <a:latin typeface="Arial"/>
              </a:rPr>
              <a:t> возвращает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PremierLine</a:t>
            </a:r>
            <a:r>
              <a:rPr b="0" lang="en-US" sz="2000" spc="-1" strike="noStrike" baseline="30000">
                <a:solidFill>
                  <a:srgbClr val="5fff85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 BackOffice </a:t>
            </a:r>
            <a:r>
              <a:rPr b="0" lang="ru-RU" sz="2000" spc="-1" strike="noStrike">
                <a:solidFill>
                  <a:srgbClr val="5fff85"/>
                </a:solidFill>
                <a:latin typeface="Arial"/>
              </a:rPr>
              <a:t>знания о клиенте, его запросах и заключенных дого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3baff"/>
                                </p:to>
                              </p:animCl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ff07"/>
                </a:solidFill>
                <a:latin typeface="Monotype Corsiva"/>
              </a:rPr>
              <a:t>РИНТИ </a:t>
            </a:r>
            <a:r>
              <a:rPr b="1" lang="en-US" sz="3200" spc="-1" strike="noStrike" baseline="30000">
                <a:solidFill>
                  <a:srgbClr val="07ff07"/>
                </a:solidFill>
                <a:latin typeface="Monotype Corsiva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03280" y="2276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систему автоматизации управления продажами и формирования базы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1080" y="1052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99"/>
                </a:solidFill>
                <a:latin typeface="Arial"/>
              </a:rPr>
              <a:t>пред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901960" y="4335480"/>
            <a:ext cx="3600000" cy="950400"/>
            <a:chOff x="2901960" y="4335480"/>
            <a:chExt cx="3600000" cy="950400"/>
          </a:xfrm>
        </p:grpSpPr>
        <p:sp>
          <p:nvSpPr>
            <p:cNvPr id="60" name=""/>
            <p:cNvSpPr/>
            <p:nvPr/>
          </p:nvSpPr>
          <p:spPr>
            <a:xfrm>
              <a:off x="2917800" y="4349520"/>
              <a:ext cx="3584160" cy="9363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01960" y="4335480"/>
              <a:ext cx="3584160" cy="93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221440" y="587700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Franklin Gothic Medium"/>
              </a:rPr>
              <a:t>Бизнес требует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7800" y="45594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PremierLine</a:t>
            </a: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74840" y="2708280"/>
            <a:ext cx="288000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acd5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emier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ack Off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762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RINTI™ PremierLine</a:t>
            </a:r>
            <a:r>
              <a:rPr b="1" lang="en-US" sz="2800" spc="-1" strike="noStrike" baseline="30000">
                <a:solidFill>
                  <a:srgbClr val="99ffcc"/>
                </a:solidFill>
                <a:latin typeface="Arial"/>
              </a:rPr>
              <a:t>®</a:t>
            </a:r>
            <a:r>
              <a:rPr b="1" lang="ru-RU" sz="2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BackOffic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меет модульную струк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8360" y="4581360"/>
            <a:ext cx="2374920" cy="648000"/>
            <a:chOff x="468360" y="4581360"/>
            <a:chExt cx="2374920" cy="648000"/>
          </a:xfrm>
        </p:grpSpPr>
        <p:sp>
          <p:nvSpPr>
            <p:cNvPr id="244" name=""/>
            <p:cNvSpPr/>
            <p:nvPr/>
          </p:nvSpPr>
          <p:spPr>
            <a:xfrm>
              <a:off x="468360" y="4581360"/>
              <a:ext cx="2374920" cy="64800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6880" y="4667400"/>
              <a:ext cx="2068560" cy="429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ManagerLine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®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25800" y="5518080"/>
            <a:ext cx="2374560" cy="647640"/>
            <a:chOff x="2125800" y="5518080"/>
            <a:chExt cx="2374560" cy="647640"/>
          </a:xfrm>
        </p:grpSpPr>
        <p:sp>
          <p:nvSpPr>
            <p:cNvPr id="247" name=""/>
            <p:cNvSpPr/>
            <p:nvPr/>
          </p:nvSpPr>
          <p:spPr>
            <a:xfrm>
              <a:off x="2125800" y="5518080"/>
              <a:ext cx="2374560" cy="64764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4840" y="5603760"/>
              <a:ext cx="1899720" cy="429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roductLine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®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59200" y="5518080"/>
            <a:ext cx="2374920" cy="647640"/>
            <a:chOff x="4759200" y="5518080"/>
            <a:chExt cx="2374920" cy="647640"/>
          </a:xfrm>
        </p:grpSpPr>
        <p:sp>
          <p:nvSpPr>
            <p:cNvPr id="250" name=""/>
            <p:cNvSpPr/>
            <p:nvPr/>
          </p:nvSpPr>
          <p:spPr>
            <a:xfrm>
              <a:off x="4759200" y="5518080"/>
              <a:ext cx="2374920" cy="64764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16520" y="5603760"/>
              <a:ext cx="2039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ContractLine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®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73800" y="4581360"/>
            <a:ext cx="2374560" cy="647640"/>
            <a:chOff x="6373800" y="4581360"/>
            <a:chExt cx="2374560" cy="647640"/>
          </a:xfrm>
        </p:grpSpPr>
        <p:sp>
          <p:nvSpPr>
            <p:cNvPr id="253" name=""/>
            <p:cNvSpPr/>
            <p:nvPr/>
          </p:nvSpPr>
          <p:spPr>
            <a:xfrm>
              <a:off x="6373800" y="4581360"/>
              <a:ext cx="2374560" cy="64764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12840" y="4667040"/>
              <a:ext cx="1899720" cy="429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ClientLine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®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4200" y="1916280"/>
            <a:ext cx="82072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41" idx="2"/>
            <a:endCxn id="244" idx="0"/>
          </p:cNvCxnSpPr>
          <p:nvPr/>
        </p:nvCxnSpPr>
        <p:spPr>
          <a:xfrm flipH="1">
            <a:off x="1655280" y="3789360"/>
            <a:ext cx="2959920" cy="7927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1" idx="2"/>
            <a:endCxn id="247" idx="0"/>
          </p:cNvCxnSpPr>
          <p:nvPr/>
        </p:nvCxnSpPr>
        <p:spPr>
          <a:xfrm flipH="1">
            <a:off x="3312720" y="3789360"/>
            <a:ext cx="1302480" cy="17294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1" idx="2"/>
            <a:endCxn id="250" idx="0"/>
          </p:cNvCxnSpPr>
          <p:nvPr/>
        </p:nvCxnSpPr>
        <p:spPr>
          <a:xfrm>
            <a:off x="4614840" y="3789360"/>
            <a:ext cx="1332720" cy="17294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41" idx="2"/>
            <a:endCxn id="253" idx="0"/>
          </p:cNvCxnSpPr>
          <p:nvPr/>
        </p:nvCxnSpPr>
        <p:spPr>
          <a:xfrm>
            <a:off x="4614480" y="3789360"/>
            <a:ext cx="2947320" cy="7927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</p:spTree>
  </p:cSld>
  <p:transition>
    <p:split dir="in" orient="horz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ffff"/>
                </a:solidFill>
                <a:latin typeface="Arial"/>
              </a:rPr>
              <a:t>Модуль кадровой службы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nagerLine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1814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Franklin Gothic Medium"/>
              </a:rPr>
              <a:t>Предназначен для организации автоматизированного кадрового уч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3668760"/>
            <a:ext cx="777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автоматизацию кадрового учета сотрудников организа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автоматизированный учет профессиональной деятельности сотрудников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планирование и учет обучения и повышения квалификации персона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позволяет учитывать результативность деятельности сотруд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28386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Кадровым службам модуль позволяет решить следующие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4200" y="1589040"/>
            <a:ext cx="82072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dffff"/>
                </a:solidFill>
                <a:latin typeface="Arial"/>
              </a:rPr>
              <a:t>Модуль организации работы с клиентами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entLine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184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Franklin Gothic Medium"/>
              </a:rPr>
              <a:t>Предназначен для организации работы с потенциальными и действующими клиент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cc"/>
                </a:solidFill>
                <a:latin typeface="Franklin Gothic Med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3800" y="293040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Модуль позволяет решать следующие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3789360"/>
            <a:ext cx="7490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накапливать, структурировать и анализировать информацию о клиентах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вести индивидуальную работу с клиентом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вести учет сотрудников компании, принимавших участие в заключении договоров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4200" y="1589040"/>
            <a:ext cx="82072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dffff"/>
                </a:solidFill>
                <a:latin typeface="Arial"/>
              </a:rPr>
              <a:t>Модуль учета видов услуг и правил их предоставления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ductLine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84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Franklin Gothic Medium"/>
              </a:rPr>
              <a:t>Предназначен для учета видов услуг, предоставляемых организацией и правил их предост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3656160"/>
            <a:ext cx="7632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формировать базу данных по предоставляемым услугам и правилам их предоставл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накапливать статистику и формировать отчеты по убыточности и доходности услуг компании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накапливать статистику и формировать отчеты по востребованности услуг компании в зависимости от условий их предостав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3800" y="300204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Модуль позволяет решать следующие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4200" y="1700280"/>
            <a:ext cx="82072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dffff"/>
                </a:solidFill>
                <a:latin typeface="Arial"/>
              </a:rPr>
              <a:t>Модуль учета и ведения договоров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actLine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17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Franklin Gothic Medium"/>
              </a:rPr>
              <a:t>Предназначен для организации учета подготавливаемых, действующих и архивных договоров на оказание услуг клиентам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3800" y="314640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Модуль позволяет решать следующие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3681360"/>
            <a:ext cx="76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организовывать общий учет и историю договоров с клиентами компан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проводить анализ прибыльности договоров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проводить сравнительный анализ востребованности услуг компании в зависимости от условий представления услуг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проводить анализ эффективности продаж услуг в зависимости от различных условий</a:t>
            </a: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4200" y="1589040"/>
            <a:ext cx="82072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1623960"/>
            <a:ext cx="770256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99"/>
                </a:solidFill>
                <a:latin typeface="Arial"/>
              </a:rPr>
              <a:t>Может неограниченно расширяться самим пользователем и дает возможнос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99"/>
                </a:solidFill>
                <a:latin typeface="Arial"/>
              </a:rPr>
              <a:t>создавать бизнес прилож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99"/>
                </a:solidFill>
                <a:latin typeface="Arial"/>
              </a:rPr>
              <a:t>управлять параметрами продаж и предоставления услуг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99"/>
                </a:solidFill>
                <a:latin typeface="Arial"/>
              </a:rPr>
              <a:t>конструировать сложные схемы аналитических запросов из единой базы знаний.</a:t>
            </a: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6922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Arial Narrow"/>
              </a:rPr>
              <a:t>Революционные возможности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1280" y="5330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ffcc"/>
                </a:solidFill>
                <a:latin typeface="Arial"/>
              </a:rPr>
              <a:t>Наша технология позволяет свести к минимуму затраты на строительство информационной систе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538200" y="1855800"/>
          <a:ext cx="8067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855800"/>
                    <a:ext cx="806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395280" y="11606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Левая часть интерфейса содержит дерево установленных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1200" y="2460600"/>
            <a:ext cx="2951280" cy="34560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40000" y="212760"/>
            <a:ext cx="4249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PremierLin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 Back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538200" y="1855800"/>
          <a:ext cx="8067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855800"/>
                    <a:ext cx="806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333600" y="2460600"/>
            <a:ext cx="5313600" cy="34560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119700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cc"/>
                </a:solidFill>
                <a:latin typeface="Arial"/>
              </a:rPr>
              <a:t>Правая часть является рабочей областью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ffcc"/>
                </a:solidFill>
                <a:latin typeface="Arial"/>
              </a:rPr>
              <a:t>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40000" y="212760"/>
            <a:ext cx="4249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PremierLin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 Back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8200" y="1600200"/>
          <a:ext cx="8067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600200"/>
                    <a:ext cx="806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632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cc"/>
                </a:solidFill>
                <a:latin typeface="Arial"/>
              </a:rPr>
              <a:t>В каждом модуле есть три основных режима просмо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6960" y="851040"/>
            <a:ext cx="7978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66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список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94120" y="2247840"/>
            <a:ext cx="252720" cy="252360"/>
          </a:xfrm>
          <a:prstGeom prst="flowChartAlternateProcess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38640" y="2527200"/>
            <a:ext cx="5308560" cy="31687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538200" y="1600200"/>
          <a:ext cx="8067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600200"/>
                    <a:ext cx="806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632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cc"/>
                </a:solidFill>
                <a:latin typeface="Arial"/>
              </a:rPr>
              <a:t>В каждом модуле есть три основных режима просмо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6960" y="851040"/>
            <a:ext cx="7978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66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информация по объ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22720" y="2257560"/>
            <a:ext cx="225720" cy="225360"/>
          </a:xfrm>
          <a:prstGeom prst="flowChartAlternateProcess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33600" y="2517840"/>
            <a:ext cx="5313600" cy="2998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566720"/>
            <a:ext cx="8229600" cy="36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cc"/>
                </a:solidFill>
                <a:latin typeface="Arial"/>
              </a:rPr>
              <a:t>РИНТИ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ы создаем информационные технологии оптимизации бизнес проце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ш клиент получает эффективные и экономичные методы продвижения продуктов и услуг к потреби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38200" y="1600200"/>
          <a:ext cx="8067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600200"/>
                    <a:ext cx="806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632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cc"/>
                </a:solidFill>
                <a:latin typeface="Arial"/>
              </a:rPr>
              <a:t>В каждом модуле есть три основных режима просмо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6960" y="851040"/>
            <a:ext cx="7978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66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сводная информация по объ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29360" y="2247840"/>
            <a:ext cx="252360" cy="252360"/>
          </a:xfrm>
          <a:prstGeom prst="flowChartAlternateProcess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19560" y="2535120"/>
            <a:ext cx="5327640" cy="30099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cc"/>
                </a:solidFill>
                <a:latin typeface="Arial"/>
              </a:rPr>
              <a:t>Вы формируете собственную систему параметров для каждого объе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54040" y="1565280"/>
          <a:ext cx="803592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1565280"/>
                    <a:ext cx="803592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144440" y="3112920"/>
            <a:ext cx="1392480" cy="235080"/>
          </a:xfrm>
          <a:prstGeom prst="flowChartAlternateProcess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48000" y="2205000"/>
            <a:ext cx="5284800" cy="34560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6000" y="3213000"/>
            <a:ext cx="792000" cy="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8900000">
            <a:off x="3276360" y="3284280"/>
            <a:ext cx="691920" cy="126720"/>
          </a:xfrm>
          <a:prstGeom prst="rightArrow">
            <a:avLst>
              <a:gd name="adj1" fmla="val 50000"/>
              <a:gd name="adj2" fmla="val 136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3348000" y="2349360"/>
            <a:ext cx="2565360" cy="2880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8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9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0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65896E-006 L 0.21267 0.15722 E">
                                      <p:cBhvr>
                                        <p:cTn id="903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500"/>
                            </p:stCondLst>
                            <p:childTnLst>
                              <p:par>
                                <p:cTn id="90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7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8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0"/>
                            </p:stCondLst>
                            <p:childTnLst>
                              <p:par>
                                <p:cTn id="91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267 0.15722 L 0.0158 -0.10659 E">
                                      <p:cBhvr>
                                        <p:cTn id="911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6000"/>
                            </p:stCondLst>
                            <p:childTnLst>
                              <p:par>
                                <p:cTn id="91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4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5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6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Arial"/>
              </a:rPr>
              <a:t>RINTI™ BOBi</a:t>
            </a:r>
            <a:r>
              <a:rPr b="1" lang="en-US" sz="3200" spc="-1" strike="noStrike" baseline="30000">
                <a:solidFill>
                  <a:srgbClr val="99ffcc"/>
                </a:solidFill>
                <a:latin typeface="Arial"/>
              </a:rPr>
              <a:t>®</a:t>
            </a:r>
            <a:r>
              <a:rPr b="1" lang="en-US" sz="3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ffcc"/>
                </a:solidFill>
                <a:latin typeface="Arial"/>
              </a:rPr>
              <a:t>реализует определяющие факторы успеха любого бизне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7777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700"/>
              </a:spcBef>
              <a:buClr>
                <a:srgbClr val="99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Нацеленность на получение прибыли через организацию эффективных прод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99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Ориентированность на кли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99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Гибкость, настраиваемость и расширяемость информационной системы комп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044720" y="3213000"/>
            <a:ext cx="7056360" cy="3024360"/>
            <a:chOff x="1044720" y="3213000"/>
            <a:chExt cx="7056360" cy="3024360"/>
          </a:xfrm>
        </p:grpSpPr>
        <p:sp>
          <p:nvSpPr>
            <p:cNvPr id="66" name=""/>
            <p:cNvSpPr/>
            <p:nvPr/>
          </p:nvSpPr>
          <p:spPr>
            <a:xfrm>
              <a:off x="1044720" y="3213000"/>
              <a:ext cx="7056360" cy="3024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19640" y="547992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изнес-объек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изнес - объе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изнес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бъект –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это информационная структура, отражающая сущность реального бизнес-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9080" y="4142160"/>
            <a:ext cx="3673440" cy="797040"/>
          </a:xfrm>
          <a:prstGeom prst="foldedCorner">
            <a:avLst>
              <a:gd name="adj" fmla="val 12500"/>
            </a:avLst>
          </a:prstGeom>
          <a:solidFill>
            <a:srgbClr val="b1ff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а функционирован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4284720"/>
            <a:ext cx="2017440" cy="797040"/>
          </a:xfrm>
          <a:prstGeom prst="foldedCorner">
            <a:avLst>
              <a:gd name="adj" fmla="val 12500"/>
            </a:avLst>
          </a:prstGeom>
          <a:solidFill>
            <a:srgbClr val="b1ff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висы пользов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9080" y="5293080"/>
            <a:ext cx="3959280" cy="797040"/>
          </a:xfrm>
          <a:prstGeom prst="foldedCorner">
            <a:avLst>
              <a:gd name="adj" fmla="val 12500"/>
            </a:avLst>
          </a:prstGeom>
          <a:solidFill>
            <a:srgbClr val="b1ff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фейс взаимодействия с другими бизнес-объек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Сопоставление возмож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5300640"/>
            <a:ext cx="194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Вы може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125360"/>
            <a:ext cx="44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Классически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93500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ffd8"/>
                </a:solidFill>
                <a:latin typeface="Arial"/>
              </a:rPr>
              <a:t>Бизнес-процессы жестко «зашиты» внутри бизнес-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3066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Технолог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NTI™ BOBy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4720" y="416736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ffd8"/>
                </a:solidFill>
                <a:latin typeface="Arial"/>
              </a:rPr>
              <a:t>Можно управлять «начинкой» бизнес-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278320" y="981000"/>
            <a:ext cx="820440" cy="718920"/>
            <a:chOff x="5278320" y="981000"/>
            <a:chExt cx="820440" cy="718920"/>
          </a:xfrm>
        </p:grpSpPr>
        <p:grpSp>
          <p:nvGrpSpPr>
            <p:cNvPr id="80" name=""/>
            <p:cNvGrpSpPr/>
            <p:nvPr/>
          </p:nvGrpSpPr>
          <p:grpSpPr>
            <a:xfrm>
              <a:off x="5306760" y="981000"/>
              <a:ext cx="792000" cy="718920"/>
              <a:chOff x="5306760" y="981000"/>
              <a:chExt cx="792000" cy="718920"/>
            </a:xfrm>
          </p:grpSpPr>
          <p:sp>
            <p:nvSpPr>
              <p:cNvPr id="81" name=""/>
              <p:cNvSpPr/>
              <p:nvPr/>
            </p:nvSpPr>
            <p:spPr>
              <a:xfrm>
                <a:off x="5306760" y="981000"/>
                <a:ext cx="792000" cy="71892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619240" y="1412640"/>
                <a:ext cx="215640" cy="216000"/>
              </a:xfrm>
              <a:prstGeom prst="noSmoking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5278320" y="113976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431040" y="981000"/>
            <a:ext cx="820800" cy="718920"/>
            <a:chOff x="6431040" y="981000"/>
            <a:chExt cx="820800" cy="718920"/>
          </a:xfrm>
        </p:grpSpPr>
        <p:grpSp>
          <p:nvGrpSpPr>
            <p:cNvPr id="85" name=""/>
            <p:cNvGrpSpPr/>
            <p:nvPr/>
          </p:nvGrpSpPr>
          <p:grpSpPr>
            <a:xfrm>
              <a:off x="6459480" y="981000"/>
              <a:ext cx="792360" cy="718920"/>
              <a:chOff x="6459480" y="981000"/>
              <a:chExt cx="792360" cy="718920"/>
            </a:xfrm>
          </p:grpSpPr>
          <p:sp>
            <p:nvSpPr>
              <p:cNvPr id="86" name=""/>
              <p:cNvSpPr/>
              <p:nvPr/>
            </p:nvSpPr>
            <p:spPr>
              <a:xfrm>
                <a:off x="6459480" y="981000"/>
                <a:ext cx="792360" cy="71892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72320" y="1412640"/>
                <a:ext cx="216000" cy="216000"/>
              </a:xfrm>
              <a:prstGeom prst="noSmoking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431040" y="113976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292720" y="2060640"/>
            <a:ext cx="806400" cy="718920"/>
            <a:chOff x="5292720" y="2060640"/>
            <a:chExt cx="806400" cy="718920"/>
          </a:xfrm>
        </p:grpSpPr>
        <p:grpSp>
          <p:nvGrpSpPr>
            <p:cNvPr id="90" name=""/>
            <p:cNvGrpSpPr/>
            <p:nvPr/>
          </p:nvGrpSpPr>
          <p:grpSpPr>
            <a:xfrm>
              <a:off x="5307120" y="2060640"/>
              <a:ext cx="792000" cy="718920"/>
              <a:chOff x="5307120" y="2060640"/>
              <a:chExt cx="792000" cy="718920"/>
            </a:xfrm>
          </p:grpSpPr>
          <p:sp>
            <p:nvSpPr>
              <p:cNvPr id="91" name=""/>
              <p:cNvSpPr/>
              <p:nvPr/>
            </p:nvSpPr>
            <p:spPr>
              <a:xfrm>
                <a:off x="5307120" y="2060640"/>
                <a:ext cx="792000" cy="71892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19600" y="2492280"/>
                <a:ext cx="215640" cy="216000"/>
              </a:xfrm>
              <a:prstGeom prst="noSmoking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292720" y="2204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248440" y="3157560"/>
            <a:ext cx="835920" cy="719280"/>
            <a:chOff x="5248440" y="3157560"/>
            <a:chExt cx="835920" cy="719280"/>
          </a:xfrm>
        </p:grpSpPr>
        <p:sp>
          <p:nvSpPr>
            <p:cNvPr id="95" name=""/>
            <p:cNvSpPr/>
            <p:nvPr/>
          </p:nvSpPr>
          <p:spPr>
            <a:xfrm>
              <a:off x="5292360" y="3157560"/>
              <a:ext cx="792000" cy="719280"/>
            </a:xfrm>
            <a:prstGeom prst="cube">
              <a:avLst>
                <a:gd name="adj" fmla="val 25000"/>
              </a:avLst>
            </a:prstGeom>
            <a:solidFill>
              <a:srgbClr val="d7ff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08360" y="346068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08360" y="35463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64000" y="361800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4000" y="369108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4000" y="377676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48440" y="3301920"/>
              <a:ext cx="2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400800" y="3157560"/>
            <a:ext cx="836640" cy="719280"/>
            <a:chOff x="6400800" y="3157560"/>
            <a:chExt cx="836640" cy="719280"/>
          </a:xfrm>
        </p:grpSpPr>
        <p:sp>
          <p:nvSpPr>
            <p:cNvPr id="103" name=""/>
            <p:cNvSpPr/>
            <p:nvPr/>
          </p:nvSpPr>
          <p:spPr>
            <a:xfrm>
              <a:off x="6445440" y="3157560"/>
              <a:ext cx="792000" cy="719280"/>
            </a:xfrm>
            <a:prstGeom prst="cube">
              <a:avLst>
                <a:gd name="adj" fmla="val 25000"/>
              </a:avLst>
            </a:prstGeom>
            <a:solidFill>
              <a:srgbClr val="d7ff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9960" y="3603600"/>
              <a:ext cx="215640" cy="216000"/>
            </a:xfrm>
            <a:prstGeom prst="lightningBol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330192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62480" y="4222800"/>
            <a:ext cx="822240" cy="718920"/>
            <a:chOff x="5262480" y="4222800"/>
            <a:chExt cx="822240" cy="718920"/>
          </a:xfrm>
        </p:grpSpPr>
        <p:sp>
          <p:nvSpPr>
            <p:cNvPr id="107" name=""/>
            <p:cNvSpPr/>
            <p:nvPr/>
          </p:nvSpPr>
          <p:spPr>
            <a:xfrm>
              <a:off x="5292360" y="4222800"/>
              <a:ext cx="792360" cy="718920"/>
            </a:xfrm>
            <a:prstGeom prst="cube">
              <a:avLst>
                <a:gd name="adj" fmla="val 25000"/>
              </a:avLst>
            </a:prstGeom>
            <a:solidFill>
              <a:srgbClr val="d7ff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2480" y="435276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>
            <a:off x="5681520" y="1699920"/>
            <a:ext cx="0" cy="431640"/>
          </a:xfrm>
          <a:prstGeom prst="line">
            <a:avLst/>
          </a:prstGeom>
          <a:ln w="50760">
            <a:solidFill>
              <a:srgbClr val="178bff"/>
            </a:solidFill>
            <a:miter/>
            <a:head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27840" y="1339920"/>
            <a:ext cx="431640" cy="0"/>
          </a:xfrm>
          <a:prstGeom prst="line">
            <a:avLst/>
          </a:prstGeom>
          <a:ln w="50760">
            <a:solidFill>
              <a:srgbClr val="178bff"/>
            </a:solidFill>
            <a:miter/>
            <a:head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386400" y="981000"/>
            <a:ext cx="1958760" cy="1800000"/>
            <a:chOff x="6386400" y="981000"/>
            <a:chExt cx="1958760" cy="1800000"/>
          </a:xfrm>
        </p:grpSpPr>
        <p:grpSp>
          <p:nvGrpSpPr>
            <p:cNvPr id="112" name=""/>
            <p:cNvGrpSpPr/>
            <p:nvPr/>
          </p:nvGrpSpPr>
          <p:grpSpPr>
            <a:xfrm>
              <a:off x="7524720" y="2062080"/>
              <a:ext cx="820440" cy="718920"/>
              <a:chOff x="7524720" y="2062080"/>
              <a:chExt cx="820440" cy="7189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7553160" y="2062080"/>
                <a:ext cx="792000" cy="718920"/>
                <a:chOff x="7553160" y="2062080"/>
                <a:chExt cx="792000" cy="7189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7553160" y="2062080"/>
                  <a:ext cx="792000" cy="718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865640" y="2493720"/>
                  <a:ext cx="215640" cy="21600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524720" y="2220840"/>
                <a:ext cx="28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7524720" y="981000"/>
              <a:ext cx="820080" cy="718920"/>
              <a:chOff x="7524720" y="981000"/>
              <a:chExt cx="820080" cy="71892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7552800" y="981000"/>
                <a:ext cx="792000" cy="718920"/>
                <a:chOff x="7552800" y="981000"/>
                <a:chExt cx="792000" cy="7189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552800" y="981000"/>
                  <a:ext cx="792000" cy="718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65280" y="1412640"/>
                  <a:ext cx="215640" cy="21600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7524720" y="1139760"/>
                <a:ext cx="28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386400" y="2060640"/>
              <a:ext cx="806400" cy="718920"/>
              <a:chOff x="6386400" y="2060640"/>
              <a:chExt cx="806400" cy="7189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6400800" y="2060640"/>
                <a:ext cx="792000" cy="718920"/>
                <a:chOff x="6400800" y="2060640"/>
                <a:chExt cx="792000" cy="7189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400800" y="2060640"/>
                  <a:ext cx="792000" cy="718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713280" y="2492280"/>
                  <a:ext cx="215640" cy="21600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6386400" y="2204640"/>
                <a:ext cx="289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7940520" y="1699920"/>
              <a:ext cx="0" cy="431640"/>
            </a:xfrm>
            <a:prstGeom prst="line">
              <a:avLst/>
            </a:prstGeom>
            <a:ln w="50760">
              <a:solidFill>
                <a:srgbClr val="178bff"/>
              </a:solidFill>
              <a:miter/>
              <a:head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21160" y="2421000"/>
              <a:ext cx="432000" cy="0"/>
            </a:xfrm>
            <a:prstGeom prst="line">
              <a:avLst/>
            </a:prstGeom>
            <a:ln w="50760">
              <a:solidFill>
                <a:srgbClr val="178bff"/>
              </a:solidFill>
              <a:miter/>
              <a:head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5667480" y="3862080"/>
            <a:ext cx="0" cy="431640"/>
          </a:xfrm>
          <a:prstGeom prst="line">
            <a:avLst/>
          </a:prstGeom>
          <a:ln w="50760">
            <a:solidFill>
              <a:srgbClr val="178bff"/>
            </a:solidFill>
            <a:miter/>
            <a:head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3440" y="3516480"/>
            <a:ext cx="431640" cy="0"/>
          </a:xfrm>
          <a:prstGeom prst="line">
            <a:avLst/>
          </a:prstGeom>
          <a:ln w="50760">
            <a:solidFill>
              <a:srgbClr val="178bff"/>
            </a:solidFill>
            <a:miter/>
            <a:head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400800" y="3141720"/>
            <a:ext cx="1987560" cy="1814400"/>
            <a:chOff x="6400800" y="3141720"/>
            <a:chExt cx="1987560" cy="1814400"/>
          </a:xfrm>
        </p:grpSpPr>
        <p:sp>
          <p:nvSpPr>
            <p:cNvPr id="132" name=""/>
            <p:cNvSpPr/>
            <p:nvPr/>
          </p:nvSpPr>
          <p:spPr>
            <a:xfrm>
              <a:off x="7596000" y="3141720"/>
              <a:ext cx="792360" cy="718920"/>
            </a:xfrm>
            <a:prstGeom prst="cube">
              <a:avLst>
                <a:gd name="adj" fmla="val 25000"/>
              </a:avLst>
            </a:prstGeom>
            <a:solidFill>
              <a:srgbClr val="d7ff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12000" y="3500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83200" y="363060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67640" y="3760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51720" y="328608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45080" y="4237200"/>
              <a:ext cx="792000" cy="718920"/>
            </a:xfrm>
            <a:prstGeom prst="cube">
              <a:avLst>
                <a:gd name="adj" fmla="val 25000"/>
              </a:avLst>
            </a:prstGeom>
            <a:solidFill>
              <a:srgbClr val="d7ff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59280" y="4581360"/>
              <a:ext cx="216000" cy="216000"/>
            </a:xfrm>
            <a:prstGeom prst="lightningBol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00800" y="438156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565760" y="4222800"/>
              <a:ext cx="822240" cy="718920"/>
              <a:chOff x="7565760" y="4222800"/>
              <a:chExt cx="822240" cy="718920"/>
            </a:xfrm>
          </p:grpSpPr>
          <p:sp>
            <p:nvSpPr>
              <p:cNvPr id="141" name=""/>
              <p:cNvSpPr/>
              <p:nvPr/>
            </p:nvSpPr>
            <p:spPr>
              <a:xfrm>
                <a:off x="7595640" y="4222800"/>
                <a:ext cx="792360" cy="718920"/>
              </a:xfrm>
              <a:prstGeom prst="cube">
                <a:avLst>
                  <a:gd name="adj" fmla="val 25000"/>
                </a:avLst>
              </a:prstGeom>
              <a:solidFill>
                <a:srgbClr val="d7ff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65760" y="4352760"/>
                <a:ext cx="28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flipV="1">
              <a:off x="7984800" y="3846240"/>
              <a:ext cx="0" cy="431640"/>
            </a:xfrm>
            <a:prstGeom prst="line">
              <a:avLst/>
            </a:prstGeom>
            <a:ln w="50760">
              <a:solidFill>
                <a:srgbClr val="178bff"/>
              </a:solidFill>
              <a:miter/>
              <a:head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4360" y="4610160"/>
              <a:ext cx="431640" cy="0"/>
            </a:xfrm>
            <a:prstGeom prst="line">
              <a:avLst/>
            </a:prstGeom>
            <a:ln w="50760">
              <a:solidFill>
                <a:srgbClr val="178bff"/>
              </a:solidFill>
              <a:miter/>
              <a:head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826920" y="5805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- управлять параметр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- создавать визуальные представления – создавать рабочие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технологи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NTI™ BOB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136000" cy="4971960"/>
          </a:xfrm>
          <a:prstGeom prst="rect">
            <a:avLst/>
          </a:prstGeom>
          <a:solidFill>
            <a:srgbClr val="b3d9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е решение содержит «ноу-хау», которое позволяет вносить изменения в структуру  информационных потоков без корректировки структуры базы данных и программного кода. 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за несколько кликов мышью создает  новую информ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яется возможность экономить значительные человеческие, временные и финансовые ресурсы при изменении регламента бизнес 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а самонастраиваемая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a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a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a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2120" y="1595160"/>
            <a:ext cx="7772400" cy="4886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0320" y="1036800"/>
            <a:ext cx="7772400" cy="3729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cc">
                  <a:alpha val="90196"/>
                </a:srgbClr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6"/>
                </a:solidFill>
                <a:latin typeface="Lucida Sans Unicode"/>
              </a:rPr>
              <a:t>База данных / База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197080" y="1790640"/>
            <a:ext cx="1295280" cy="1600200"/>
            <a:chOff x="2197080" y="1790640"/>
            <a:chExt cx="1295280" cy="1600200"/>
          </a:xfrm>
        </p:grpSpPr>
        <p:sp>
          <p:nvSpPr>
            <p:cNvPr id="151" name=""/>
            <p:cNvSpPr/>
            <p:nvPr/>
          </p:nvSpPr>
          <p:spPr>
            <a:xfrm>
              <a:off x="2197080" y="1790640"/>
              <a:ext cx="1295280" cy="1295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ff4b"/>
                  </a:solidFill>
                  <a:latin typeface="Arial"/>
                </a:rPr>
                <a:t>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ff4b"/>
                  </a:solidFill>
                  <a:latin typeface="Arial"/>
                </a:rPr>
                <a:t>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97080" y="2705040"/>
              <a:ext cx="1295280" cy="685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114800" y="1790640"/>
            <a:ext cx="1295280" cy="1600200"/>
            <a:chOff x="4114800" y="1790640"/>
            <a:chExt cx="1295280" cy="1600200"/>
          </a:xfrm>
        </p:grpSpPr>
        <p:sp>
          <p:nvSpPr>
            <p:cNvPr id="154" name=""/>
            <p:cNvSpPr/>
            <p:nvPr/>
          </p:nvSpPr>
          <p:spPr>
            <a:xfrm>
              <a:off x="4114800" y="1790640"/>
              <a:ext cx="1295280" cy="1295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ff4b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ff4b"/>
                  </a:solidFill>
                  <a:latin typeface="Arial"/>
                </a:rPr>
                <a:t>словар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14800" y="2705040"/>
              <a:ext cx="1295280" cy="685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492360" y="2421000"/>
            <a:ext cx="622440" cy="216000"/>
          </a:xfrm>
          <a:prstGeom prst="leftRightArrow">
            <a:avLst>
              <a:gd name="adj1" fmla="val 50000"/>
              <a:gd name="adj2" fmla="val 5736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4076640"/>
            <a:ext cx="2985840" cy="749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3ff4b"/>
                </a:solidFill>
                <a:latin typeface="Arial"/>
              </a:rPr>
              <a:t>Поисковая систем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240840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4352760"/>
            <a:ext cx="838440" cy="228600"/>
          </a:xfrm>
          <a:prstGeom prst="leftRightArrow">
            <a:avLst>
              <a:gd name="adj1" fmla="val 50000"/>
              <a:gd name="adj2" fmla="val 7301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5600880"/>
            <a:ext cx="52578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3ff4b"/>
                </a:solidFill>
                <a:latin typeface="Arial"/>
              </a:rPr>
              <a:t>Клиентская часть / пользовате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76720" y="4826160"/>
            <a:ext cx="3504960" cy="774720"/>
            <a:chOff x="3276720" y="4826160"/>
            <a:chExt cx="3504960" cy="774720"/>
          </a:xfrm>
        </p:grpSpPr>
        <p:sp>
          <p:nvSpPr>
            <p:cNvPr id="162" name=""/>
            <p:cNvSpPr/>
            <p:nvPr/>
          </p:nvSpPr>
          <p:spPr>
            <a:xfrm>
              <a:off x="3276720" y="4826160"/>
              <a:ext cx="228600" cy="763560"/>
            </a:xfrm>
            <a:prstGeom prst="upDownArrow">
              <a:avLst>
                <a:gd name="adj1" fmla="val 50000"/>
                <a:gd name="adj2" fmla="val 66494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53080" y="483876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052720" y="49514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апросы              рекоменд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12000" y="1790640"/>
            <a:ext cx="1371600" cy="3048120"/>
            <a:chOff x="6012000" y="1790640"/>
            <a:chExt cx="1371600" cy="3048120"/>
          </a:xfrm>
        </p:grpSpPr>
        <p:sp>
          <p:nvSpPr>
            <p:cNvPr id="166" name=""/>
            <p:cNvSpPr/>
            <p:nvPr/>
          </p:nvSpPr>
          <p:spPr>
            <a:xfrm>
              <a:off x="6012000" y="1790640"/>
              <a:ext cx="1371600" cy="30481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6337080" y="2660760"/>
              <a:ext cx="72900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ff4b"/>
                  </a:solidFill>
                  <a:latin typeface="Arial"/>
                </a:rPr>
                <a:t>Целевые фун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826920" y="160200"/>
            <a:ext cx="77058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Arial"/>
              </a:rPr>
              <a:t>RINTI™ S2C</a:t>
            </a:r>
            <a:r>
              <a:rPr b="0" lang="en-US" sz="2400" spc="-1" strike="noStrike" baseline="30000">
                <a:solidFill>
                  <a:srgbClr val="99ffcc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строения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19120" y="21333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На основании системы параметров, правил и усло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автоматически формируется рабочее место продаж полного цик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по запросу менеджера или клиента программа производит расчет стоимости услуги или комплекса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формируются и распечатываются все необходимые док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04720"/>
            <a:ext cx="251928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SalesLine</a:t>
            </a: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cc"/>
                </a:solidFill>
                <a:latin typeface="Arial"/>
              </a:rPr>
              <a:t>Рабочее место </a:t>
            </a: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SalesLine</a:t>
            </a:r>
            <a:r>
              <a:rPr b="0" lang="en-US" sz="2400" spc="-1" strike="noStrike" baseline="30000">
                <a:solidFill>
                  <a:srgbClr val="99ffcc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cc"/>
                </a:solidFill>
                <a:latin typeface="Arial"/>
              </a:rPr>
              <a:t>автоматически создается на основании параметров, внесенных в </a:t>
            </a: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Back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26920" y="1557360"/>
          <a:ext cx="756144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56144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9:20:23Z</dcterms:created>
  <dc:creator>Alexey Kolesnikov</dc:creator>
  <dc:description/>
  <dc:language>en-US</dc:language>
  <cp:lastModifiedBy>AKOLESNIKOV2000</cp:lastModifiedBy>
  <dcterms:modified xsi:type="dcterms:W3CDTF">2002-11-26T08:23:48Z</dcterms:modified>
  <cp:revision>301</cp:revision>
  <dc:subject/>
  <dc:title>Слайд 1</dc:title>
</cp:coreProperties>
</file>