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6F7-EE87-4429-ADE4-5E3F7C7D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E5D-0771-4DB6-A26F-529C3B4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192-18B7-49DD-89A3-2FF1E630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C2E-1DE4-4B8A-AB38-8A245F04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1BD-57EC-47F7-A098-D93F1B1B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0CD-D5F4-4FAB-86D2-573E0D36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81B-D2B2-4036-AACB-BCE436A0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DF6-1345-43C4-BCE4-077A140B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E48-FCB1-4C62-AC6D-C5CFF6D8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CBE-C3D0-477A-AD41-A7C85861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473-FA38-4B48-8719-3F32D4AF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F0F-2387-47ED-8725-DA8D44AA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DF95-2DBA-4D91-AAD5-3C4622BC21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1052640"/>
            <a:ext cx="7918560" cy="295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втоматизированная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планирования (АСП) деятельности орган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4149360"/>
            <a:ext cx="6913440" cy="2087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ановка задач, контроль их выполнения и анализ эффективности персон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совместной работы персонала над задач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проектами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228600"/>
            <a:ext cx="8207280" cy="533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ЗАО «Интернет-ресурсы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1440" y="115920"/>
            <a:ext cx="8061120" cy="50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бота функции синхрониз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058"/>
          <a:stretch/>
        </p:blipFill>
        <p:spPr>
          <a:xfrm>
            <a:off x="324000" y="755640"/>
            <a:ext cx="8496000" cy="592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2413800">
            <a:off x="9143640" y="1484280"/>
            <a:ext cx="485640" cy="193680"/>
          </a:xfrm>
          <a:prstGeom prst="leftArrow">
            <a:avLst>
              <a:gd name="adj1" fmla="val 31083"/>
              <a:gd name="adj2" fmla="val 114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2133720"/>
            <a:ext cx="144360" cy="446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187280" y="4365720"/>
            <a:ext cx="180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763640" y="321300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82659E-007 L -0.49514 -0.00347 E">
                                      <p:cBhvr>
                                        <p:cTn id="155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нтроль и анализ работы персона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состояния задач на основании степени их выпол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выполнения задач по подразделени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выполнения задач по ответствен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выполнения задач по проект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1271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Искренне ваш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ЗАО «Интернет-ресурс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647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сновы деятельности компа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ие видения будущего комп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ие ценностей (философии) комп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улирование миссии комп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стратегических ц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функций управления компанией для достижения стратегических ц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структуры управления компан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еделение функций управления компанией по ее структу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207280" cy="533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уктура ЗАО «Интернет-ресурс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21120" y="1341360"/>
            <a:ext cx="2790720" cy="51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676600"/>
            <a:ext cx="1922400" cy="82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нн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55800" y="2676600"/>
            <a:ext cx="1938600" cy="82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ба поддерж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25880" y="2676600"/>
            <a:ext cx="2006640" cy="82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ба планиров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оордин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08280"/>
            <a:ext cx="1566720" cy="82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б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3680" y="5446800"/>
            <a:ext cx="8215200" cy="71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Л И Е Н Т 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4010040"/>
            <a:ext cx="1312920" cy="82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 работ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лиент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03680" y="4010040"/>
            <a:ext cx="1317600" cy="82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спектив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76800" y="4010040"/>
            <a:ext cx="1662120" cy="82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 техническ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316160" y="1854360"/>
            <a:ext cx="31780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641760" y="1854360"/>
            <a:ext cx="8524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4240" y="1854360"/>
            <a:ext cx="11620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4240" y="1854360"/>
            <a:ext cx="325440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46400" y="3068280"/>
            <a:ext cx="525240" cy="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94400" y="3086280"/>
            <a:ext cx="23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2520" y="3068640"/>
            <a:ext cx="3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8" idx="1"/>
            <a:endCxn id="51" idx="3"/>
          </p:cNvCxnSpPr>
          <p:nvPr/>
        </p:nvCxnSpPr>
        <p:spPr>
          <a:xfrm flipH="1" flipV="1" rot="10800000">
            <a:off x="323640" y="3087360"/>
            <a:ext cx="8479440" cy="32400"/>
          </a:xfrm>
          <a:prstGeom prst="curvedConnector5">
            <a:avLst>
              <a:gd name="adj1" fmla="val -2691"/>
              <a:gd name="adj2" fmla="val -1459550"/>
              <a:gd name="adj3" fmla="val -26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 flipH="1">
            <a:off x="2246400" y="3497400"/>
            <a:ext cx="139536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1760" y="349740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41760" y="3497400"/>
            <a:ext cx="170496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28960" y="483084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51520" y="483084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78400" y="4010040"/>
            <a:ext cx="1532160" cy="82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л прода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635280" y="3499920"/>
            <a:ext cx="31687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71840" y="442116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1280" y="442116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21280" y="442116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69160" y="4421160"/>
            <a:ext cx="30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6480" y="483084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зработка системы постановки задач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исание структуры задач, проектов и сопутствующих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исание уровней доступа в разделы задач, проектов и сопутствующих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еделение доступа сотрудников к разделам задач, проектов и сопутствующих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ить набор атрибутов задач и сопутствующих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341360"/>
            <a:ext cx="280692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структуры общи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пок задач, проектов 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утствующих доку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341360"/>
            <a:ext cx="2806920" cy="1079640"/>
          </a:xfrm>
          <a:prstGeom prst="rect">
            <a:avLst/>
          </a:prstGeom>
          <a:solidFill>
            <a:srgbClr val="ccff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структур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, проектов 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утствующих доку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2997360"/>
            <a:ext cx="2806920" cy="107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форм задач 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утствующих доку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2133720"/>
            <a:ext cx="2806560" cy="107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тройка доступа 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ы задач, проектов 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утствующи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ов для сотруд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079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уктура разработки АС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1916280"/>
            <a:ext cx="2806560" cy="1079280"/>
          </a:xfrm>
          <a:prstGeom prst="rect">
            <a:avLst/>
          </a:prstGeom>
          <a:solidFill>
            <a:srgbClr val="ccff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уровне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тупа в разделы задач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ов и сопутствующи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2421000"/>
            <a:ext cx="2806560" cy="1079280"/>
          </a:xfrm>
          <a:prstGeom prst="rect">
            <a:avLst/>
          </a:prstGeom>
          <a:solidFill>
            <a:srgbClr val="ccff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доступ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трудников к разделам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, проектов 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утствующих доку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6520" y="2997360"/>
            <a:ext cx="2806560" cy="1079280"/>
          </a:xfrm>
          <a:prstGeom prst="rect">
            <a:avLst/>
          </a:prstGeom>
          <a:solidFill>
            <a:srgbClr val="ccff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набор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трибутов задач 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утствующих докумен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79" idx="2"/>
          </p:cNvCxnSpPr>
          <p:nvPr/>
        </p:nvCxnSpPr>
        <p:spPr>
          <a:xfrm>
            <a:off x="1582560" y="2421000"/>
            <a:ext cx="374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3" idx="2"/>
          </p:cNvCxnSpPr>
          <p:nvPr/>
        </p:nvCxnSpPr>
        <p:spPr>
          <a:xfrm>
            <a:off x="3743280" y="2995560"/>
            <a:ext cx="75816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4" idx="2"/>
          </p:cNvCxnSpPr>
          <p:nvPr/>
        </p:nvCxnSpPr>
        <p:spPr>
          <a:xfrm flipH="1">
            <a:off x="4500000" y="3500280"/>
            <a:ext cx="104364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5" idx="2"/>
          </p:cNvCxnSpPr>
          <p:nvPr/>
        </p:nvCxnSpPr>
        <p:spPr>
          <a:xfrm flipH="1">
            <a:off x="7451280" y="4076640"/>
            <a:ext cx="388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0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16185E-006 L -0.01962 0.33041 E">
                                      <p:cBhvr>
                                        <p:cTn id="25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6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07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орядок развертывания АСП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организ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700280"/>
            <a:ext cx="223200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фигуриров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вера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soft Ex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56000" y="1700280"/>
            <a:ext cx="223200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и настрой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раметров общих пап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56000" y="3357720"/>
            <a:ext cx="2232000" cy="122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остранение форм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абочие ме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357720"/>
            <a:ext cx="2232000" cy="122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остранение н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ие места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хронизации общ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локальных пап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5157720"/>
            <a:ext cx="223200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рукций пользова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5157720"/>
            <a:ext cx="223236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е пользовател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16720" y="1700280"/>
            <a:ext cx="223200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тройка прав доступ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трудник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общим папк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3357720"/>
            <a:ext cx="2232000" cy="122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форм задач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опутствующ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умен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1" idx="3"/>
            <a:endCxn id="92" idx="1"/>
          </p:cNvCxnSpPr>
          <p:nvPr/>
        </p:nvCxnSpPr>
        <p:spPr>
          <a:xfrm>
            <a:off x="2556000" y="2312640"/>
            <a:ext cx="90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3"/>
            <a:endCxn id="97" idx="1"/>
          </p:cNvCxnSpPr>
          <p:nvPr/>
        </p:nvCxnSpPr>
        <p:spPr>
          <a:xfrm>
            <a:off x="5688000" y="2312640"/>
            <a:ext cx="82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7" idx="2"/>
            <a:endCxn id="98" idx="0"/>
          </p:cNvCxnSpPr>
          <p:nvPr/>
        </p:nvCxnSpPr>
        <p:spPr>
          <a:xfrm>
            <a:off x="7632360" y="29242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8" idx="1"/>
            <a:endCxn id="93" idx="3"/>
          </p:cNvCxnSpPr>
          <p:nvPr/>
        </p:nvCxnSpPr>
        <p:spPr>
          <a:xfrm flipH="1">
            <a:off x="5687640" y="3970080"/>
            <a:ext cx="82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1"/>
            <a:endCxn id="94" idx="3"/>
          </p:cNvCxnSpPr>
          <p:nvPr/>
        </p:nvCxnSpPr>
        <p:spPr>
          <a:xfrm flipH="1">
            <a:off x="2555640" y="3970080"/>
            <a:ext cx="90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4" idx="2"/>
            <a:endCxn id="95" idx="1"/>
          </p:cNvCxnSpPr>
          <p:nvPr/>
        </p:nvCxnSpPr>
        <p:spPr>
          <a:xfrm flipH="1" rot="16200000">
            <a:off x="1042920" y="4977720"/>
            <a:ext cx="118980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5" idx="3"/>
            <a:endCxn id="96" idx="1"/>
          </p:cNvCxnSpPr>
          <p:nvPr/>
        </p:nvCxnSpPr>
        <p:spPr>
          <a:xfrm>
            <a:off x="4066920" y="5770080"/>
            <a:ext cx="93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3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нешний вид структуры зада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758"/>
          <a:stretch/>
        </p:blipFill>
        <p:spPr>
          <a:xfrm>
            <a:off x="270000" y="765000"/>
            <a:ext cx="8604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442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спределение прав дост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069"/>
          <a:stretch/>
        </p:blipFill>
        <p:spPr>
          <a:xfrm>
            <a:off x="431640" y="852480"/>
            <a:ext cx="8280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орма 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3549"/>
          <a:stretch/>
        </p:blipFill>
        <p:spPr>
          <a:xfrm>
            <a:off x="250920" y="839880"/>
            <a:ext cx="864216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02-09-03T09:03:09Z</dcterms:modified>
  <cp:revision>18</cp:revision>
  <dc:subject/>
  <dc:title>PowerPoint Presentation</dc:title>
</cp:coreProperties>
</file>