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FBE6-B271-4092-9238-7338BFCC4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8261-3ABE-4730-960F-75FBC2BA9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4DF5-18C3-4CB1-84EA-7DBF03591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E047-8F2A-487D-A78A-65FBD3A25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A394-5127-4700-9AED-441D73F15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544B-8766-4D6A-B97F-78C1733F6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7267-6D22-49B4-B439-244D81E5B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0324-688A-4B63-8F72-B3A03EF28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7625-9340-46C4-8F42-CB5E106DF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26E2-EBD7-435E-B7AA-A74CBB8C2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715B-E623-412A-92FA-A8B2FEF98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F4D9-1B98-488D-94F5-FCC0CDDC1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2"/>
            </a:gs>
            <a:gs pos="50000">
              <a:srgbClr val="0000a0"/>
            </a:gs>
            <a:gs pos="100000">
              <a:srgbClr val="00003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1DA93-051F-456D-BCEB-9EF6B377A5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2"/>
            </a:gs>
            <a:gs pos="50000">
              <a:srgbClr val="0000a0"/>
            </a:gs>
            <a:gs pos="100000">
              <a:srgbClr val="00003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826920" y="4292640"/>
            <a:ext cx="7871040" cy="17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dc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c8"/>
                </a:solidFill>
                <a:latin typeface="Arial"/>
              </a:rPr>
              <a:t>Наш клиент получает эффективные и экономичные методы продвижения продуктов и услуг к потребител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907920"/>
            <a:ext cx="3382920" cy="14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dc"/>
                </a:solidFill>
                <a:latin typeface="Arial"/>
              </a:rPr>
              <a:t>РИНТИ</a:t>
            </a:r>
            <a:r>
              <a:rPr b="1" lang="en-US" sz="3600" spc="-1" strike="noStrike">
                <a:solidFill>
                  <a:srgbClr val="ffffdc"/>
                </a:solidFill>
                <a:latin typeface="Arial"/>
              </a:rPr>
              <a:t>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195640" y="2133720"/>
            <a:ext cx="6335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8"/>
                </a:solidFill>
                <a:latin typeface="Arial"/>
              </a:rPr>
              <a:t>Мы создаем информационные технологии оптимизации бизнес процесс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2"/>
            </a:gs>
            <a:gs pos="50000">
              <a:srgbClr val="0000a0"/>
            </a:gs>
            <a:gs pos="100000">
              <a:srgbClr val="00003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692360" y="981000"/>
            <a:ext cx="576108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 Unicode"/>
              </a:rPr>
              <a:t>Рабочее место прода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2998800"/>
            <a:ext cx="829152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8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c8"/>
                </a:solidFill>
                <a:latin typeface="Arial"/>
              </a:rPr>
              <a:t>Рабочее место продаж</a:t>
            </a:r>
            <a:r>
              <a:rPr b="1" lang="en-US" sz="3200" spc="-1" strike="noStrike">
                <a:solidFill>
                  <a:srgbClr val="ffffc8"/>
                </a:solidFill>
                <a:latin typeface="Arial"/>
              </a:rPr>
              <a:t> – </a:t>
            </a:r>
            <a:r>
              <a:rPr b="1" lang="ru-RU" sz="3200" spc="-1" strike="noStrike">
                <a:solidFill>
                  <a:srgbClr val="ffffc8"/>
                </a:solidFill>
                <a:latin typeface="Arial"/>
              </a:rPr>
              <a:t>это</a:t>
            </a:r>
            <a:r>
              <a:rPr b="1" lang="en-US" sz="3200" spc="-1" strike="noStrike">
                <a:solidFill>
                  <a:srgbClr val="ffffc8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c8"/>
                </a:solidFill>
                <a:latin typeface="Arial"/>
              </a:rPr>
              <a:t>автоматизированное рабочее место продавца услуг, которое может быть установлено в любой точке, где есть компьюте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2"/>
            </a:gs>
            <a:gs pos="50000">
              <a:srgbClr val="0000a0"/>
            </a:gs>
            <a:gs pos="100000">
              <a:srgbClr val="00003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8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c8"/>
                </a:solidFill>
                <a:latin typeface="Arial"/>
              </a:rPr>
              <a:t>Рабочее место автоматически создается на основании параметров, внесенных в Конструкторе Тариф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332000" y="1366920"/>
            <a:ext cx="6481800" cy="52783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2"/>
            </a:gs>
            <a:gs pos="50000">
              <a:srgbClr val="0000a0"/>
            </a:gs>
            <a:gs pos="100000">
              <a:srgbClr val="00003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8"/>
                </a:solidFill>
                <a:latin typeface="Arial"/>
              </a:rPr>
              <a:t>На основании правил, тарифов и информации пользователя формируются итоговые докумен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050920" y="1628640"/>
            <a:ext cx="4961160" cy="50515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2"/>
            </a:gs>
            <a:gs pos="50000">
              <a:srgbClr val="0000a0"/>
            </a:gs>
            <a:gs pos="100000">
              <a:srgbClr val="00003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18680"/>
            <a:ext cx="82296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8"/>
                </a:solidFill>
                <a:latin typeface="Arial"/>
              </a:rPr>
              <a:t>РИНТИ™ ОСАГО реализует определяющие факторы успеха любого бизнес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71280" y="2349000"/>
            <a:ext cx="6840360" cy="37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1720" indent="-531720">
              <a:spcBef>
                <a:spcPts val="799"/>
              </a:spcBef>
              <a:buClr>
                <a:srgbClr val="ffffff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Система позволя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172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За счет различных вариантов комплектации организовать единое информационное поле сети продаж ОСАГ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172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Автоматизировать полный цикл продажи страхового поли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2"/>
            </a:gs>
            <a:gs pos="50000">
              <a:srgbClr val="0000a0"/>
            </a:gs>
            <a:gs pos="100000">
              <a:srgbClr val="00003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55640" y="62028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8"/>
                </a:solidFill>
                <a:latin typeface="Lucida Sans Unicode"/>
              </a:rPr>
              <a:t>РИНТИ</a:t>
            </a:r>
            <a:r>
              <a:rPr b="1" lang="en-US" sz="3200" spc="-1" strike="noStrike" baseline="30000">
                <a:solidFill>
                  <a:srgbClr val="ffffc8"/>
                </a:solidFill>
                <a:latin typeface="Monotype Corsiva"/>
              </a:rPr>
              <a:t>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971640" y="1773360"/>
            <a:ext cx="748800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систему автоматиза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8"/>
                </a:solidFill>
                <a:latin typeface="Arial"/>
              </a:rPr>
              <a:t>продаж страховых полисов автогражданской ответственности в удаленных точках, филиалах и головных офисах страховых компаний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76720" y="1268280"/>
            <a:ext cx="25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8"/>
                </a:solidFill>
                <a:latin typeface="Arial"/>
              </a:rPr>
              <a:t>представля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698920" y="5013360"/>
            <a:ext cx="3888720" cy="950400"/>
            <a:chOff x="2698920" y="5013360"/>
            <a:chExt cx="3888720" cy="950400"/>
          </a:xfrm>
        </p:grpSpPr>
        <p:sp>
          <p:nvSpPr>
            <p:cNvPr id="48" name=""/>
            <p:cNvSpPr/>
            <p:nvPr/>
          </p:nvSpPr>
          <p:spPr>
            <a:xfrm>
              <a:off x="2715840" y="5027400"/>
              <a:ext cx="3871800" cy="936360"/>
            </a:xfrm>
            <a:prstGeom prst="rect">
              <a:avLst/>
            </a:prstGeom>
            <a:noFill/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698920" y="5013360"/>
              <a:ext cx="3871800" cy="936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2627280" y="5229360"/>
            <a:ext cx="401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ff"/>
                </a:solidFill>
                <a:uFillTx/>
                <a:latin typeface="Lucida Sans Unicode"/>
              </a:rPr>
              <a:t>РИНТИ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Lucida Sans Unicode"/>
              </a:rPr>
              <a:t>™ </a:t>
            </a:r>
            <a:r>
              <a:rPr b="1" lang="ru-RU" sz="3600" spc="-1" strike="noStrike" u="sng">
                <a:solidFill>
                  <a:srgbClr val="ffffff"/>
                </a:solidFill>
                <a:uFillTx/>
                <a:latin typeface="Lucida Sans Unicode"/>
              </a:rPr>
              <a:t>ОСАГ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50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500"/>
                            </p:stCondLst>
                            <p:childTnLst>
                              <p:par>
                                <p:cTn id="3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9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indefinite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2"/>
            </a:gs>
            <a:gs pos="50000">
              <a:srgbClr val="0000a0"/>
            </a:gs>
            <a:gs pos="100000">
              <a:srgbClr val="00003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2204640"/>
            <a:ext cx="8362800" cy="25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8"/>
                </a:solidFill>
                <a:latin typeface="Arial"/>
              </a:rPr>
              <a:t>В базу РИНТИ™ ОСАГО занесены все параметры, правила и тарифы Обязательного Страхования Автогражданской Ответственности, согласованные с Р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2"/>
            </a:gs>
            <a:gs pos="50000">
              <a:srgbClr val="0000a0"/>
            </a:gs>
            <a:gs pos="100000">
              <a:srgbClr val="00003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195640" y="1268280"/>
            <a:ext cx="0" cy="4681800"/>
          </a:xfrm>
          <a:prstGeom prst="line">
            <a:avLst/>
          </a:prstGeom>
          <a:ln cap="rnd" w="60480">
            <a:solidFill>
              <a:srgbClr val="ffff99"/>
            </a:solidFill>
            <a:custDash>
              <a:ds d="100000" sp="1000"/>
            </a:custDash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55640" y="549360"/>
            <a:ext cx="7993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00000" y="549360"/>
            <a:ext cx="7704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333360"/>
            <a:ext cx="6983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c8"/>
                </a:solidFill>
                <a:latin typeface="Arial"/>
              </a:rPr>
              <a:t>Система </a:t>
            </a:r>
            <a:r>
              <a:rPr b="1" lang="en-US" sz="2500" spc="-1" strike="noStrike">
                <a:solidFill>
                  <a:srgbClr val="ffffc8"/>
                </a:solidFill>
                <a:latin typeface="Arial"/>
              </a:rPr>
              <a:t>РИНТИ™ ОСАГО</a:t>
            </a:r>
            <a:r>
              <a:rPr b="0" lang="en-US" sz="2500" spc="-1" strike="noStrike">
                <a:solidFill>
                  <a:srgbClr val="ffffc8"/>
                </a:solidFill>
                <a:latin typeface="Arial"/>
              </a:rPr>
              <a:t> поставляется в трех различных конфигурациях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3141720"/>
            <a:ext cx="360036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5400000"/>
          </a:gradFill>
          <a:ln w="66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гент компан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5280" y="4941720"/>
            <a:ext cx="3600360" cy="7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5400000"/>
          </a:gradFill>
          <a:ln w="66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неральный Аге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1484280"/>
            <a:ext cx="3600360" cy="7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5400000"/>
          </a:gradFill>
          <a:ln w="66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бодный аген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284720" y="1313280"/>
            <a:ext cx="4859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c8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ffffc8"/>
                </a:solidFill>
                <a:latin typeface="Arial"/>
              </a:rPr>
              <a:t>«Движок» рабочего места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c8"/>
                </a:solidFill>
                <a:latin typeface="Arial"/>
              </a:rPr>
              <a:t>БД </a:t>
            </a:r>
            <a:r>
              <a:rPr b="0" lang="en-US" sz="2200" spc="-1" strike="noStrike">
                <a:solidFill>
                  <a:srgbClr val="ffffc8"/>
                </a:solidFill>
                <a:latin typeface="Arial"/>
              </a:rPr>
              <a:t>Interbase</a:t>
            </a:r>
            <a:r>
              <a:rPr b="0" lang="ru-RU" sz="2200" spc="-1" strike="noStrike">
                <a:solidFill>
                  <a:srgbClr val="ffffc8"/>
                </a:solidFill>
                <a:latin typeface="Arial"/>
              </a:rPr>
              <a:t> с внесенными правилами и тарифам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284720" y="4799160"/>
            <a:ext cx="485928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c8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ffffc8"/>
                </a:solidFill>
                <a:latin typeface="Arial"/>
              </a:rPr>
              <a:t>«Движок» рабочего места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c8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ffffc8"/>
                </a:solidFill>
                <a:latin typeface="Arial"/>
              </a:rPr>
              <a:t>БД </a:t>
            </a:r>
            <a:r>
              <a:rPr b="0" lang="en-US" sz="2200" spc="-1" strike="noStrike">
                <a:solidFill>
                  <a:srgbClr val="ffffc8"/>
                </a:solidFill>
                <a:latin typeface="Arial"/>
              </a:rPr>
              <a:t>Interbase</a:t>
            </a:r>
            <a:r>
              <a:rPr b="0" lang="ru-RU" sz="2200" spc="-1" strike="noStrike">
                <a:solidFill>
                  <a:srgbClr val="ffffc8"/>
                </a:solidFill>
                <a:latin typeface="Arial"/>
              </a:rPr>
              <a:t> с внесенными правилами и тарифам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c8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ffffc8"/>
                </a:solidFill>
                <a:latin typeface="Arial"/>
              </a:rPr>
              <a:t>Модуль приема/отправки данных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c8"/>
                </a:solidFill>
                <a:latin typeface="Arial"/>
              </a:rPr>
              <a:t> </a:t>
            </a:r>
            <a:r>
              <a:rPr b="0" lang="ru-RU" sz="2200" spc="-1" strike="noStrike" u="sng">
                <a:solidFill>
                  <a:srgbClr val="ffffc8"/>
                </a:solidFill>
                <a:uFillTx/>
                <a:latin typeface="Arial"/>
              </a:rPr>
              <a:t>Конструктор тариф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284720" y="2767320"/>
            <a:ext cx="4859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c8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ffffc8"/>
                </a:solidFill>
                <a:latin typeface="Arial"/>
              </a:rPr>
              <a:t>«Движок» рабочего места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c8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ffffc8"/>
                </a:solidFill>
                <a:latin typeface="Arial"/>
              </a:rPr>
              <a:t>БД </a:t>
            </a:r>
            <a:r>
              <a:rPr b="0" lang="en-US" sz="2200" spc="-1" strike="noStrike">
                <a:solidFill>
                  <a:srgbClr val="ffffc8"/>
                </a:solidFill>
                <a:latin typeface="Arial"/>
              </a:rPr>
              <a:t>Interbase</a:t>
            </a:r>
            <a:r>
              <a:rPr b="0" lang="ru-RU" sz="2200" spc="-1" strike="noStrike">
                <a:solidFill>
                  <a:srgbClr val="ffffc8"/>
                </a:solidFill>
                <a:latin typeface="Arial"/>
              </a:rPr>
              <a:t> с внесенными      правилами и тарифам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c8"/>
                </a:solidFill>
                <a:latin typeface="Arial"/>
              </a:rPr>
              <a:t> </a:t>
            </a:r>
            <a:r>
              <a:rPr b="0" lang="ru-RU" sz="2200" spc="-1" strike="noStrike" u="sng">
                <a:solidFill>
                  <a:srgbClr val="ffffc8"/>
                </a:solidFill>
                <a:uFillTx/>
                <a:latin typeface="Arial"/>
              </a:rPr>
              <a:t>Модуль приема/отправки данных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2565360"/>
            <a:ext cx="8424720" cy="0"/>
          </a:xfrm>
          <a:prstGeom prst="line">
            <a:avLst/>
          </a:prstGeom>
          <a:ln w="442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95280" y="4581360"/>
            <a:ext cx="8424720" cy="0"/>
          </a:xfrm>
          <a:prstGeom prst="line">
            <a:avLst/>
          </a:prstGeom>
          <a:ln w="442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5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5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5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5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6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6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6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6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7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7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7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7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2"/>
            </a:gs>
            <a:gs pos="50000">
              <a:srgbClr val="0000a0"/>
            </a:gs>
            <a:gs pos="100000">
              <a:srgbClr val="00003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50920" y="333360"/>
            <a:ext cx="626436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5400000"/>
          </a:gradFill>
          <a:ln w="66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Конфигурация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бодный аген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11280" y="1413000"/>
            <a:ext cx="7704000" cy="52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c8"/>
                </a:solidFill>
                <a:latin typeface="Arial"/>
              </a:rPr>
              <a:t>  </a:t>
            </a:r>
            <a:r>
              <a:rPr b="0" lang="en-US" sz="2700" spc="-1" strike="noStrike">
                <a:solidFill>
                  <a:srgbClr val="ffffc8"/>
                </a:solidFill>
                <a:latin typeface="Arial"/>
              </a:rPr>
              <a:t>Является минимально достаточной для организации автоматизированного рабочего места продаж. Дешевизна, объективность применения установленных правил и тарифов, быстрота обслуживания клиента (от 1,5 мин. для проведения котировки до 5-7 мин. на формирование полного пакета документов) являются несомненными преимуществами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c8"/>
                </a:solidFill>
                <a:latin typeface="Arial"/>
              </a:rPr>
              <a:t>  </a:t>
            </a:r>
            <a:r>
              <a:rPr b="0" lang="en-US" sz="2700" spc="-1" strike="noStrike">
                <a:solidFill>
                  <a:srgbClr val="ffffc8"/>
                </a:solidFill>
                <a:latin typeface="Arial"/>
              </a:rPr>
              <a:t>Данную конфигурацию рационально использовать свободным агентам по продажам, брокерам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2"/>
            </a:gs>
            <a:gs pos="50000">
              <a:srgbClr val="0000a0"/>
            </a:gs>
            <a:gs pos="100000">
              <a:srgbClr val="00003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50920" y="333360"/>
            <a:ext cx="626436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5400000"/>
          </a:gradFill>
          <a:ln w="66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Конфигурация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гент компан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1280" y="1413000"/>
            <a:ext cx="7704000" cy="524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c8"/>
                </a:solidFill>
                <a:latin typeface="Arial"/>
              </a:rPr>
              <a:t>  </a:t>
            </a:r>
            <a:r>
              <a:rPr b="0" lang="en-US" sz="2500" spc="-1" strike="noStrike">
                <a:solidFill>
                  <a:srgbClr val="ffffc8"/>
                </a:solidFill>
                <a:latin typeface="Arial"/>
              </a:rPr>
              <a:t>В дополнении к Конфигурации "Свободный агент" позволяет автоматически получать обновления правил и тарифов и отправлять в центральный офис или филиал данные о заключенных полисах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c8"/>
                </a:solidFill>
                <a:latin typeface="Arial"/>
              </a:rPr>
              <a:t>  </a:t>
            </a:r>
            <a:r>
              <a:rPr b="0" lang="en-US" sz="2500" spc="-1" strike="noStrike">
                <a:solidFill>
                  <a:srgbClr val="ffffc8"/>
                </a:solidFill>
                <a:latin typeface="Arial"/>
              </a:rPr>
              <a:t>Использование Конфигурации "Агент компании" целесообразно в агентствах, представительствах,  филиалах, имеющих возможность периодического подключения через Интернет к вышестоящему филиалу или головному офису компании. Целесообразно также использовать данную конфигурацию агентам, работающим на станциях техосмотра, отделениях банков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2"/>
            </a:gs>
            <a:gs pos="50000">
              <a:srgbClr val="0000a0"/>
            </a:gs>
            <a:gs pos="100000">
              <a:srgbClr val="00003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50920" y="333360"/>
            <a:ext cx="626436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5400000"/>
          </a:gradFill>
          <a:ln w="66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Конфигурация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неральный Аге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11280" y="1413000"/>
            <a:ext cx="7704000" cy="46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c8"/>
                </a:solidFill>
                <a:latin typeface="Arial"/>
              </a:rPr>
              <a:t>  </a:t>
            </a:r>
            <a:r>
              <a:rPr b="0" lang="en-US" sz="2700" spc="-1" strike="noStrike">
                <a:solidFill>
                  <a:srgbClr val="ffffc8"/>
                </a:solidFill>
                <a:latin typeface="Arial"/>
              </a:rPr>
              <a:t>Может применяться в головном офисе компании или  филиале. Программа обеспечивает единообразное внесение и применение правил, тарифов, формирование рабочего места продаж и шаблонов печатных документов. Обновленные правила и тарифы, шаблоны документов, рабочее место продаж доставляются в автоматическом режиме при очередном сеансе связи на рабочие места, оборудованные по Конфигурации "Агент компании"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2"/>
            </a:gs>
            <a:gs pos="50000">
              <a:srgbClr val="0000a0"/>
            </a:gs>
            <a:gs pos="100000">
              <a:srgbClr val="00003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519120" y="2563560"/>
            <a:ext cx="8229600" cy="36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На основании системы параметров, правил и услови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174600" algn="just">
              <a:spcBef>
                <a:spcPts val="601"/>
              </a:spcBef>
              <a:buClr>
                <a:srgbClr val="ffffc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8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c8"/>
                </a:solidFill>
                <a:latin typeface="Arial"/>
              </a:rPr>
              <a:t>в систему вносятся утвержденные правила, условия и тариф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74600" algn="just">
              <a:spcBef>
                <a:spcPts val="601"/>
              </a:spcBef>
              <a:buClr>
                <a:srgbClr val="ffffc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8"/>
                </a:solidFill>
                <a:latin typeface="Arial"/>
              </a:rPr>
              <a:t>автоматически формируется рабочее место продаж полного цик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987640" y="476280"/>
            <a:ext cx="3168720" cy="1373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dc"/>
                </a:solidFill>
                <a:latin typeface="Lucida Sans Unicode"/>
              </a:rPr>
              <a:t>Конструктор Тариф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2"/>
            </a:gs>
            <a:gs pos="50000">
              <a:srgbClr val="0000a0"/>
            </a:gs>
            <a:gs pos="100000">
              <a:srgbClr val="00003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280" y="188640"/>
            <a:ext cx="82090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8"/>
                </a:solidFill>
                <a:latin typeface="Arial"/>
              </a:rPr>
              <a:t>Конструктор тарифов: </a:t>
            </a:r>
            <a:br>
              <a:rPr sz="2800"/>
            </a:br>
            <a:r>
              <a:rPr b="0" lang="ru-RU" sz="2800" spc="-1" strike="noStrike">
                <a:solidFill>
                  <a:srgbClr val="ffffc8"/>
                </a:solidFill>
                <a:latin typeface="Arial"/>
              </a:rPr>
              <a:t>внесение параметров, правил и услови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26920" y="1052640"/>
            <a:ext cx="7704360" cy="55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4T09:20:23Z</dcterms:created>
  <dc:creator>Alexey Kolesnikov</dc:creator>
  <dc:description/>
  <dc:language>en-US</dc:language>
  <cp:lastModifiedBy>roman</cp:lastModifiedBy>
  <dcterms:modified xsi:type="dcterms:W3CDTF">2003-07-16T13:31:10Z</dcterms:modified>
  <cp:revision>312</cp:revision>
  <dc:subject/>
  <dc:title>Слайд 1</dc:title>
</cp:coreProperties>
</file>